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3.png"/><Relationship Id="rId9" Type="http://schemas.openxmlformats.org/officeDocument/2006/relationships/image" Target="../media/image17.png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676520" cy="1428840"/>
          </a:xfrm>
          <a:prstGeom prst="rect">
            <a:avLst/>
          </a:prstGeom>
          <a:ln w="0">
            <a:noFill/>
          </a:ln>
        </p:spPr>
      </p:pic>
      <p:sp>
        <p:nvSpPr>
          <p:cNvPr id="37" name=""/>
          <p:cNvSpPr/>
          <p:nvPr/>
        </p:nvSpPr>
        <p:spPr>
          <a:xfrm>
            <a:off x="458280" y="1905120"/>
            <a:ext cx="255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Braffer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Indian School, located east of Wren Build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666880" cy="174132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3873600" y="2117880"/>
            <a:ext cx="79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sett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3714840" y="2714760"/>
            <a:ext cx="1714320" cy="14284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719160" y="4251240"/>
            <a:ext cx="187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uton Parish Church (Anglic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762120" y="2590920"/>
            <a:ext cx="1552320" cy="142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00720" y="409896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Ca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09480" y="4572000"/>
            <a:ext cx="3581640" cy="153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0240" y="6324480"/>
            <a:ext cx="302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ter’s Grove Plantation (8 miles SE of Williamsbu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72200" y="2286000"/>
            <a:ext cx="1467000" cy="142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233760" y="3794040"/>
            <a:ext cx="76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952880" y="4648320"/>
            <a:ext cx="3657600" cy="1428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78000" y="608004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erard 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5410080" y="456840"/>
            <a:ext cx="3352680" cy="5486400"/>
            <a:chOff x="5410080" y="456840"/>
            <a:chExt cx="3352680" cy="5486400"/>
          </a:xfrm>
        </p:grpSpPr>
        <p:sp>
          <p:nvSpPr>
            <p:cNvPr id="532" name=""/>
            <p:cNvSpPr/>
            <p:nvPr/>
          </p:nvSpPr>
          <p:spPr>
            <a:xfrm>
              <a:off x="6400440" y="1357560"/>
              <a:ext cx="914400" cy="319320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00440" y="1357560"/>
              <a:ext cx="0" cy="458568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080" y="1357560"/>
              <a:ext cx="335268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00440" y="457200"/>
              <a:ext cx="914400" cy="90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14840" y="456840"/>
              <a:ext cx="838440" cy="90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5619240" y="1432080"/>
            <a:ext cx="2125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G                   &lt;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G                   &lt;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R                     &lt;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^G                   &lt;R                      &lt;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^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                    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   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Y/Red            Red  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Y./Red              Red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15200" y="419112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276720"/>
            <a:ext cx="144792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15200" y="2743200"/>
            <a:ext cx="76212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0" y="0"/>
          <a:ext cx="44449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44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5549400" y="623268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st to West Lay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99840" y="5927760"/>
            <a:ext cx="126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 red ones  (hous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yellow   (chur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green (taver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685800" y="5257800"/>
            <a:ext cx="461880" cy="486360"/>
            <a:chOff x="685800" y="5257800"/>
            <a:chExt cx="461880" cy="486360"/>
          </a:xfrm>
        </p:grpSpPr>
        <p:sp>
          <p:nvSpPr>
            <p:cNvPr id="546" name=""/>
            <p:cNvSpPr/>
            <p:nvPr/>
          </p:nvSpPr>
          <p:spPr>
            <a:xfrm rot="5400000">
              <a:off x="686160" y="5258160"/>
              <a:ext cx="461520" cy="4615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685800" y="5257800"/>
              <a:ext cx="167760" cy="461520"/>
              <a:chOff x="685800" y="5257800"/>
              <a:chExt cx="167760" cy="461520"/>
            </a:xfrm>
          </p:grpSpPr>
          <p:sp>
            <p:nvSpPr>
              <p:cNvPr id="548" name=""/>
              <p:cNvSpPr/>
              <p:nvPr/>
            </p:nvSpPr>
            <p:spPr>
              <a:xfrm rot="5400000">
                <a:off x="580680" y="5446440"/>
                <a:ext cx="377640" cy="16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hurch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5400000">
                <a:off x="685800" y="5257800"/>
                <a:ext cx="83880" cy="8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9680" y="5341680"/>
                <a:ext cx="0" cy="37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828720" y="5341680"/>
              <a:ext cx="318600" cy="402480"/>
              <a:chOff x="828720" y="5341680"/>
              <a:chExt cx="318600" cy="402480"/>
            </a:xfrm>
          </p:grpSpPr>
          <p:sp>
            <p:nvSpPr>
              <p:cNvPr id="552" name=""/>
              <p:cNvSpPr/>
              <p:nvPr/>
            </p:nvSpPr>
            <p:spPr>
              <a:xfrm rot="5400000">
                <a:off x="905760" y="5415120"/>
                <a:ext cx="314640" cy="16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3080" y="5425200"/>
                <a:ext cx="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flipV="1">
                <a:off x="1063080" y="5572080"/>
                <a:ext cx="8388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979200" y="5572440"/>
                <a:ext cx="8388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1063440" y="5341680"/>
                <a:ext cx="83880" cy="8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979200" y="5341680"/>
                <a:ext cx="83880" cy="8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5400000">
                <a:off x="1052640" y="539388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5400000">
                <a:off x="1052640" y="556200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5400000">
                <a:off x="741600" y="548712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757800" y="835560"/>
            <a:ext cx="645480" cy="688680"/>
            <a:chOff x="757800" y="835560"/>
            <a:chExt cx="645480" cy="688680"/>
          </a:xfrm>
        </p:grpSpPr>
        <p:sp>
          <p:nvSpPr>
            <p:cNvPr id="562" name=""/>
            <p:cNvSpPr/>
            <p:nvPr/>
          </p:nvSpPr>
          <p:spPr>
            <a:xfrm rot="16200000">
              <a:off x="799920" y="991800"/>
              <a:ext cx="462960" cy="461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1094400" y="835560"/>
              <a:ext cx="308880" cy="618120"/>
              <a:chOff x="1094400" y="835560"/>
              <a:chExt cx="308880" cy="61812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094400" y="990720"/>
                <a:ext cx="167760" cy="462960"/>
                <a:chOff x="1094400" y="990720"/>
                <a:chExt cx="167760" cy="462960"/>
              </a:xfrm>
            </p:grpSpPr>
            <p:sp>
              <p:nvSpPr>
                <p:cNvPr id="565" name=""/>
                <p:cNvSpPr/>
                <p:nvPr/>
              </p:nvSpPr>
              <p:spPr>
                <a:xfrm rot="16200000">
                  <a:off x="946800" y="1138320"/>
                  <a:ext cx="462960" cy="16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6200000">
                  <a:off x="904680" y="1180080"/>
                  <a:ext cx="462960" cy="8388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178280" y="136944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1178280" y="99072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6200000">
                  <a:off x="1157400" y="1201680"/>
                  <a:ext cx="41760" cy="4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 rot="16200000">
                <a:off x="1064880" y="1004040"/>
                <a:ext cx="50688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094400" y="990720"/>
                <a:ext cx="0" cy="46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757800" y="990720"/>
              <a:ext cx="213840" cy="533520"/>
              <a:chOff x="757800" y="990720"/>
              <a:chExt cx="213840" cy="533520"/>
            </a:xfrm>
          </p:grpSpPr>
          <p:sp>
            <p:nvSpPr>
              <p:cNvPr id="573" name=""/>
              <p:cNvSpPr/>
              <p:nvPr/>
            </p:nvSpPr>
            <p:spPr>
              <a:xfrm rot="5358000">
                <a:off x="653040" y="1139040"/>
                <a:ext cx="462960" cy="16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82360" y="1033560"/>
                <a:ext cx="468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887040" y="1412640"/>
                <a:ext cx="8460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804240" y="1412640"/>
                <a:ext cx="8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882720" y="990720"/>
                <a:ext cx="8352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>
                <a:off x="798120" y="992880"/>
                <a:ext cx="842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5358000">
                <a:off x="819720" y="10342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5358000">
                <a:off x="820440" y="10764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5358000">
                <a:off x="820800" y="11185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5358000">
                <a:off x="821520" y="11606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5358000">
                <a:off x="822240" y="12240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5358000">
                <a:off x="822600" y="12657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5358000">
                <a:off x="823320" y="13082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5358000">
                <a:off x="823680" y="13500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5358000">
                <a:off x="873000" y="108648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5358000">
                <a:off x="874080" y="114948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5358000">
                <a:off x="875520" y="127584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5358000">
                <a:off x="663120" y="1256040"/>
                <a:ext cx="36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1" name=""/>
          <p:cNvGrpSpPr/>
          <p:nvPr/>
        </p:nvGrpSpPr>
        <p:grpSpPr>
          <a:xfrm>
            <a:off x="760680" y="413280"/>
            <a:ext cx="669240" cy="501120"/>
            <a:chOff x="760680" y="413280"/>
            <a:chExt cx="669240" cy="501120"/>
          </a:xfrm>
        </p:grpSpPr>
        <p:sp>
          <p:nvSpPr>
            <p:cNvPr id="592" name=""/>
            <p:cNvSpPr/>
            <p:nvPr/>
          </p:nvSpPr>
          <p:spPr>
            <a:xfrm rot="5358000">
              <a:off x="760680" y="450000"/>
              <a:ext cx="462600" cy="457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762120" y="413280"/>
              <a:ext cx="287280" cy="499680"/>
              <a:chOff x="762120" y="413280"/>
              <a:chExt cx="287280" cy="49968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762120" y="450360"/>
                <a:ext cx="166320" cy="462600"/>
                <a:chOff x="762120" y="450360"/>
                <a:chExt cx="166320" cy="462600"/>
              </a:xfrm>
            </p:grpSpPr>
            <p:sp>
              <p:nvSpPr>
                <p:cNvPr id="595" name=""/>
                <p:cNvSpPr/>
                <p:nvPr/>
              </p:nvSpPr>
              <p:spPr>
                <a:xfrm rot="16200000">
                  <a:off x="698040" y="598680"/>
                  <a:ext cx="294480" cy="16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rot="16200000">
                  <a:off x="810000" y="81540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rot="16200000">
                  <a:off x="810000" y="43704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845280" y="450360"/>
                  <a:ext cx="0" cy="46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824040" y="80820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824040" y="513720"/>
                  <a:ext cx="4212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 rot="16200000">
                <a:off x="792360" y="50004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036080" y="462600"/>
              <a:ext cx="393840" cy="258480"/>
              <a:chOff x="1036080" y="462600"/>
              <a:chExt cx="393840" cy="258480"/>
            </a:xfrm>
          </p:grpSpPr>
          <p:sp>
            <p:nvSpPr>
              <p:cNvPr id="603" name=""/>
              <p:cNvSpPr/>
              <p:nvPr/>
            </p:nvSpPr>
            <p:spPr>
              <a:xfrm rot="21557400">
                <a:off x="1036440" y="463320"/>
                <a:ext cx="185760" cy="10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21557400">
                <a:off x="1036440" y="498960"/>
                <a:ext cx="1656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1053000" y="514080"/>
                <a:ext cx="169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21557400">
                <a:off x="1084680" y="54900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1103040" y="522000"/>
              <a:ext cx="260640" cy="392400"/>
              <a:chOff x="1103040" y="522000"/>
              <a:chExt cx="260640" cy="392400"/>
            </a:xfrm>
          </p:grpSpPr>
          <p:sp>
            <p:nvSpPr>
              <p:cNvPr id="608" name=""/>
              <p:cNvSpPr/>
              <p:nvPr/>
            </p:nvSpPr>
            <p:spPr>
              <a:xfrm rot="16110000">
                <a:off x="1059840" y="763200"/>
                <a:ext cx="195120" cy="10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6110000">
                <a:off x="1150920" y="886680"/>
                <a:ext cx="17640" cy="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>
                <a:off x="1155240" y="717840"/>
                <a:ext cx="4680" cy="17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6110000">
                <a:off x="1101960" y="61092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5410080" y="456840"/>
            <a:ext cx="3352680" cy="5486400"/>
            <a:chOff x="5410080" y="456840"/>
            <a:chExt cx="3352680" cy="5486400"/>
          </a:xfrm>
        </p:grpSpPr>
        <p:sp>
          <p:nvSpPr>
            <p:cNvPr id="613" name=""/>
            <p:cNvSpPr/>
            <p:nvPr/>
          </p:nvSpPr>
          <p:spPr>
            <a:xfrm>
              <a:off x="6400440" y="1357560"/>
              <a:ext cx="914400" cy="319320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00440" y="1357560"/>
              <a:ext cx="0" cy="458568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10080" y="1357560"/>
              <a:ext cx="335268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00440" y="457200"/>
              <a:ext cx="914400" cy="90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7314840" y="456840"/>
              <a:ext cx="838440" cy="90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5619960" y="1432080"/>
            <a:ext cx="223956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 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 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Red    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 Yel                 &lt;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 Red                  &lt;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n                   Grn                      &lt;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  Yel                  &lt;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315200" y="419112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00800" y="3276720"/>
            <a:ext cx="144792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5200" y="2743200"/>
            <a:ext cx="76212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598400" y="413280"/>
            <a:ext cx="669600" cy="501480"/>
            <a:chOff x="1598400" y="413280"/>
            <a:chExt cx="669600" cy="501480"/>
          </a:xfrm>
        </p:grpSpPr>
        <p:sp>
          <p:nvSpPr>
            <p:cNvPr id="623" name=""/>
            <p:cNvSpPr/>
            <p:nvPr/>
          </p:nvSpPr>
          <p:spPr>
            <a:xfrm rot="5358000">
              <a:off x="1598400" y="450000"/>
              <a:ext cx="462600" cy="456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1600200" y="413280"/>
              <a:ext cx="287640" cy="499680"/>
              <a:chOff x="1600200" y="413280"/>
              <a:chExt cx="287640" cy="49968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1600200" y="450360"/>
                <a:ext cx="165960" cy="462600"/>
                <a:chOff x="1600200" y="450360"/>
                <a:chExt cx="165960" cy="462600"/>
              </a:xfrm>
            </p:grpSpPr>
            <p:sp>
              <p:nvSpPr>
                <p:cNvPr id="626" name=""/>
                <p:cNvSpPr/>
                <p:nvPr/>
              </p:nvSpPr>
              <p:spPr>
                <a:xfrm rot="16200000">
                  <a:off x="1535760" y="598680"/>
                  <a:ext cx="294480" cy="16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rot="16200000">
                  <a:off x="1648080" y="815760"/>
                  <a:ext cx="83880" cy="11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rot="16200000">
                  <a:off x="1648080" y="437400"/>
                  <a:ext cx="83880" cy="11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V="1">
                  <a:off x="1683000" y="450360"/>
                  <a:ext cx="0" cy="46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rot="16200000">
                  <a:off x="1662120" y="80820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1662120" y="513720"/>
                  <a:ext cx="4212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 rot="16200000">
                <a:off x="1630800" y="50004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873800" y="462600"/>
              <a:ext cx="394200" cy="258480"/>
              <a:chOff x="1873800" y="462600"/>
              <a:chExt cx="394200" cy="258480"/>
            </a:xfrm>
          </p:grpSpPr>
          <p:sp>
            <p:nvSpPr>
              <p:cNvPr id="634" name=""/>
              <p:cNvSpPr/>
              <p:nvPr/>
            </p:nvSpPr>
            <p:spPr>
              <a:xfrm rot="21557400">
                <a:off x="1874160" y="463320"/>
                <a:ext cx="185760" cy="10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557400">
                <a:off x="1874160" y="498960"/>
                <a:ext cx="1656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1890720" y="514080"/>
                <a:ext cx="1688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1557400">
                <a:off x="1922760" y="54900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1941120" y="517320"/>
              <a:ext cx="259920" cy="397440"/>
              <a:chOff x="1941120" y="517320"/>
              <a:chExt cx="259920" cy="397440"/>
            </a:xfrm>
          </p:grpSpPr>
          <p:sp>
            <p:nvSpPr>
              <p:cNvPr id="639" name=""/>
              <p:cNvSpPr/>
              <p:nvPr/>
            </p:nvSpPr>
            <p:spPr>
              <a:xfrm rot="16110000">
                <a:off x="1897920" y="763200"/>
                <a:ext cx="195480" cy="10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6110000">
                <a:off x="1989000" y="886680"/>
                <a:ext cx="17640" cy="3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 flipV="1">
                <a:off x="1993320" y="718200"/>
                <a:ext cx="4680" cy="17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6110000">
                <a:off x="1939320" y="60624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3" name=""/>
          <p:cNvGrpSpPr/>
          <p:nvPr/>
        </p:nvGrpSpPr>
        <p:grpSpPr>
          <a:xfrm>
            <a:off x="1597320" y="838440"/>
            <a:ext cx="644040" cy="688320"/>
            <a:chOff x="1597320" y="838440"/>
            <a:chExt cx="644040" cy="688320"/>
          </a:xfrm>
        </p:grpSpPr>
        <p:sp>
          <p:nvSpPr>
            <p:cNvPr id="644" name=""/>
            <p:cNvSpPr/>
            <p:nvPr/>
          </p:nvSpPr>
          <p:spPr>
            <a:xfrm rot="16200000">
              <a:off x="1638000" y="993240"/>
              <a:ext cx="462240" cy="459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1932120" y="838440"/>
              <a:ext cx="309240" cy="615600"/>
              <a:chOff x="1932120" y="838440"/>
              <a:chExt cx="309240" cy="6156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1932120" y="991440"/>
                <a:ext cx="167040" cy="462600"/>
                <a:chOff x="1932120" y="991440"/>
                <a:chExt cx="167040" cy="462600"/>
              </a:xfrm>
            </p:grpSpPr>
            <p:sp>
              <p:nvSpPr>
                <p:cNvPr id="647" name=""/>
                <p:cNvSpPr/>
                <p:nvPr/>
              </p:nvSpPr>
              <p:spPr>
                <a:xfrm rot="16200000">
                  <a:off x="1784520" y="1139040"/>
                  <a:ext cx="462240" cy="167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16200000">
                  <a:off x="1742760" y="1180800"/>
                  <a:ext cx="462240" cy="8352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015640" y="1370160"/>
                  <a:ext cx="83520" cy="8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2015640" y="991440"/>
                  <a:ext cx="83520" cy="8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16200000">
                  <a:off x="1994760" y="1201680"/>
                  <a:ext cx="41760" cy="4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"/>
              <p:cNvSpPr/>
              <p:nvPr/>
            </p:nvSpPr>
            <p:spPr>
              <a:xfrm rot="16200000">
                <a:off x="1902960" y="1006920"/>
                <a:ext cx="50688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1932120" y="991440"/>
                <a:ext cx="0" cy="46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597320" y="991440"/>
              <a:ext cx="212760" cy="535320"/>
              <a:chOff x="1597320" y="991440"/>
              <a:chExt cx="212760" cy="535320"/>
            </a:xfrm>
          </p:grpSpPr>
          <p:sp>
            <p:nvSpPr>
              <p:cNvPr id="655" name=""/>
              <p:cNvSpPr/>
              <p:nvPr/>
            </p:nvSpPr>
            <p:spPr>
              <a:xfrm rot="5358000">
                <a:off x="1492560" y="1140120"/>
                <a:ext cx="462240" cy="1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721160" y="1034280"/>
                <a:ext cx="4680" cy="37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 flipV="1">
                <a:off x="1725840" y="1413000"/>
                <a:ext cx="842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1643760" y="1413000"/>
                <a:ext cx="8244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1721160" y="991440"/>
                <a:ext cx="8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>
                <a:off x="1637640" y="993600"/>
                <a:ext cx="8352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5358000">
                <a:off x="1658520" y="10350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5358000">
                <a:off x="1659240" y="10771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5358000">
                <a:off x="1659600" y="11192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5358000">
                <a:off x="1660320" y="11613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5358000">
                <a:off x="1661040" y="12243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358000">
                <a:off x="1661400" y="12664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5358000">
                <a:off x="1662120" y="13082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5358000">
                <a:off x="1662480" y="13503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5358000">
                <a:off x="1711440" y="1087560"/>
                <a:ext cx="20880" cy="4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5358000">
                <a:off x="1712520" y="1150560"/>
                <a:ext cx="20880" cy="4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5358000">
                <a:off x="1713960" y="1276560"/>
                <a:ext cx="20880" cy="4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5358000">
                <a:off x="1502640" y="1258560"/>
                <a:ext cx="36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680760" y="2667600"/>
            <a:ext cx="648360" cy="689400"/>
            <a:chOff x="680760" y="2667600"/>
            <a:chExt cx="648360" cy="689400"/>
          </a:xfrm>
        </p:grpSpPr>
        <p:sp>
          <p:nvSpPr>
            <p:cNvPr id="674" name=""/>
            <p:cNvSpPr/>
            <p:nvPr/>
          </p:nvSpPr>
          <p:spPr>
            <a:xfrm rot="16200000">
              <a:off x="725040" y="2824200"/>
              <a:ext cx="463680" cy="461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1020240" y="2667600"/>
              <a:ext cx="308880" cy="618480"/>
              <a:chOff x="1020240" y="2667600"/>
              <a:chExt cx="308880" cy="61848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020240" y="2822760"/>
                <a:ext cx="167760" cy="463320"/>
                <a:chOff x="1020240" y="2822760"/>
                <a:chExt cx="167760" cy="463320"/>
              </a:xfrm>
            </p:grpSpPr>
            <p:sp>
              <p:nvSpPr>
                <p:cNvPr id="677" name=""/>
                <p:cNvSpPr/>
                <p:nvPr/>
              </p:nvSpPr>
              <p:spPr>
                <a:xfrm rot="16200000">
                  <a:off x="872280" y="2970360"/>
                  <a:ext cx="463320" cy="16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830520" y="3012480"/>
                  <a:ext cx="463320" cy="8388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104120" y="320184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V="1">
                  <a:off x="1104120" y="282276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rot="16200000">
                  <a:off x="1083240" y="3033720"/>
                  <a:ext cx="41760" cy="4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" name=""/>
              <p:cNvSpPr/>
              <p:nvPr/>
            </p:nvSpPr>
            <p:spPr>
              <a:xfrm rot="16200000">
                <a:off x="990720" y="2836080"/>
                <a:ext cx="50688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1020240" y="2822760"/>
                <a:ext cx="0" cy="46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680760" y="2822040"/>
              <a:ext cx="217080" cy="534960"/>
              <a:chOff x="680760" y="2822040"/>
              <a:chExt cx="217080" cy="534960"/>
            </a:xfrm>
          </p:grpSpPr>
          <p:sp>
            <p:nvSpPr>
              <p:cNvPr id="685" name=""/>
              <p:cNvSpPr/>
              <p:nvPr/>
            </p:nvSpPr>
            <p:spPr>
              <a:xfrm rot="5358000">
                <a:off x="578880" y="2971080"/>
                <a:ext cx="463680" cy="16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8920" y="286560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 flipV="1">
                <a:off x="813600" y="3244680"/>
                <a:ext cx="8424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730800" y="3244680"/>
                <a:ext cx="8316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808920" y="2822040"/>
                <a:ext cx="8316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 flipV="1">
                <a:off x="724680" y="2824200"/>
                <a:ext cx="8424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358000">
                <a:off x="745920" y="28663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5358000">
                <a:off x="746640" y="29084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5358000">
                <a:off x="747000" y="29505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5358000">
                <a:off x="747720" y="29926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5358000">
                <a:off x="748440" y="30560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5358000">
                <a:off x="748800" y="30981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358000">
                <a:off x="749520" y="31402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5358000">
                <a:off x="749880" y="31824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5358000">
                <a:off x="799200" y="291816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358000">
                <a:off x="800280" y="298152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358000">
                <a:off x="801720" y="310824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5358000">
                <a:off x="586080" y="3088800"/>
                <a:ext cx="36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3" name=""/>
          <p:cNvGrpSpPr/>
          <p:nvPr/>
        </p:nvGrpSpPr>
        <p:grpSpPr>
          <a:xfrm>
            <a:off x="760680" y="2135520"/>
            <a:ext cx="669240" cy="504720"/>
            <a:chOff x="760680" y="2135520"/>
            <a:chExt cx="669240" cy="504720"/>
          </a:xfrm>
        </p:grpSpPr>
        <p:sp>
          <p:nvSpPr>
            <p:cNvPr id="704" name=""/>
            <p:cNvSpPr/>
            <p:nvPr/>
          </p:nvSpPr>
          <p:spPr>
            <a:xfrm rot="5358000">
              <a:off x="761040" y="2171880"/>
              <a:ext cx="461880" cy="457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762120" y="2135520"/>
              <a:ext cx="287280" cy="499320"/>
              <a:chOff x="762120" y="2135520"/>
              <a:chExt cx="287280" cy="49932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762120" y="2172960"/>
                <a:ext cx="166320" cy="461880"/>
                <a:chOff x="762120" y="2172960"/>
                <a:chExt cx="166320" cy="461880"/>
              </a:xfrm>
            </p:grpSpPr>
            <p:sp>
              <p:nvSpPr>
                <p:cNvPr id="707" name=""/>
                <p:cNvSpPr/>
                <p:nvPr/>
              </p:nvSpPr>
              <p:spPr>
                <a:xfrm rot="16200000">
                  <a:off x="698400" y="2320920"/>
                  <a:ext cx="293760" cy="16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rot="16200000">
                  <a:off x="810000" y="253728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rot="16200000">
                  <a:off x="810000" y="215928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845280" y="2172960"/>
                  <a:ext cx="0" cy="46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rot="16200000">
                  <a:off x="824040" y="253008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16200000">
                  <a:off x="824040" y="223632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" name=""/>
              <p:cNvSpPr/>
              <p:nvPr/>
            </p:nvSpPr>
            <p:spPr>
              <a:xfrm rot="16200000">
                <a:off x="792360" y="222228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1036080" y="2185200"/>
              <a:ext cx="393840" cy="258480"/>
              <a:chOff x="1036080" y="2185200"/>
              <a:chExt cx="393840" cy="258480"/>
            </a:xfrm>
          </p:grpSpPr>
          <p:sp>
            <p:nvSpPr>
              <p:cNvPr id="715" name=""/>
              <p:cNvSpPr/>
              <p:nvPr/>
            </p:nvSpPr>
            <p:spPr>
              <a:xfrm rot="21557400">
                <a:off x="1036440" y="2185920"/>
                <a:ext cx="185760" cy="10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21557400">
                <a:off x="1036440" y="2221560"/>
                <a:ext cx="16560" cy="3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1053000" y="2236320"/>
                <a:ext cx="169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1557400">
                <a:off x="1084680" y="227160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1105920" y="2243880"/>
              <a:ext cx="256680" cy="396360"/>
              <a:chOff x="1105920" y="2243880"/>
              <a:chExt cx="256680" cy="396360"/>
            </a:xfrm>
          </p:grpSpPr>
          <p:sp>
            <p:nvSpPr>
              <p:cNvPr id="720" name=""/>
              <p:cNvSpPr/>
              <p:nvPr/>
            </p:nvSpPr>
            <p:spPr>
              <a:xfrm rot="16110000">
                <a:off x="1062000" y="2489040"/>
                <a:ext cx="195840" cy="10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6110000">
                <a:off x="1153440" y="2612520"/>
                <a:ext cx="17640" cy="3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 flipV="1">
                <a:off x="1157400" y="2442960"/>
                <a:ext cx="468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6110000">
                <a:off x="1100880" y="233280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1521360" y="2667240"/>
            <a:ext cx="645480" cy="688680"/>
            <a:chOff x="1521360" y="2667240"/>
            <a:chExt cx="645480" cy="688680"/>
          </a:xfrm>
        </p:grpSpPr>
        <p:sp>
          <p:nvSpPr>
            <p:cNvPr id="725" name=""/>
            <p:cNvSpPr/>
            <p:nvPr/>
          </p:nvSpPr>
          <p:spPr>
            <a:xfrm rot="16200000">
              <a:off x="1563480" y="2823480"/>
              <a:ext cx="462960" cy="461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1857960" y="2667240"/>
              <a:ext cx="308880" cy="618120"/>
              <a:chOff x="1857960" y="2667240"/>
              <a:chExt cx="308880" cy="618120"/>
            </a:xfrm>
          </p:grpSpPr>
          <p:grpSp>
            <p:nvGrpSpPr>
              <p:cNvPr id="727" name=""/>
              <p:cNvGrpSpPr/>
              <p:nvPr/>
            </p:nvGrpSpPr>
            <p:grpSpPr>
              <a:xfrm>
                <a:off x="1857960" y="2822400"/>
                <a:ext cx="167760" cy="462960"/>
                <a:chOff x="1857960" y="2822400"/>
                <a:chExt cx="167760" cy="462960"/>
              </a:xfrm>
            </p:grpSpPr>
            <p:sp>
              <p:nvSpPr>
                <p:cNvPr id="728" name=""/>
                <p:cNvSpPr/>
                <p:nvPr/>
              </p:nvSpPr>
              <p:spPr>
                <a:xfrm rot="16200000">
                  <a:off x="1710360" y="2970000"/>
                  <a:ext cx="462960" cy="16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16200000">
                  <a:off x="1668240" y="3011760"/>
                  <a:ext cx="462960" cy="8388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941840" y="320112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1941840" y="282240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6200000">
                  <a:off x="1920960" y="3033360"/>
                  <a:ext cx="41760" cy="4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 rot="16200000">
                <a:off x="1828440" y="2835720"/>
                <a:ext cx="50688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1857960" y="2822400"/>
                <a:ext cx="0" cy="46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1521360" y="2822400"/>
              <a:ext cx="213840" cy="533520"/>
              <a:chOff x="1521360" y="2822400"/>
              <a:chExt cx="213840" cy="533520"/>
            </a:xfrm>
          </p:grpSpPr>
          <p:sp>
            <p:nvSpPr>
              <p:cNvPr id="736" name=""/>
              <p:cNvSpPr/>
              <p:nvPr/>
            </p:nvSpPr>
            <p:spPr>
              <a:xfrm rot="5358000">
                <a:off x="1416600" y="2971080"/>
                <a:ext cx="463320" cy="16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45920" y="2865240"/>
                <a:ext cx="4680" cy="37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>
                <a:off x="1650600" y="3244680"/>
                <a:ext cx="8460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1567800" y="3244680"/>
                <a:ext cx="8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646280" y="2822400"/>
                <a:ext cx="8352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>
                <a:off x="1561680" y="2824560"/>
                <a:ext cx="842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5358000">
                <a:off x="1583280" y="28659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5358000">
                <a:off x="1584000" y="29080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5358000">
                <a:off x="1584360" y="29505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5358000">
                <a:off x="1585080" y="29923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358000">
                <a:off x="1585800" y="30556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358000">
                <a:off x="1586160" y="30978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5358000">
                <a:off x="1586880" y="31399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5358000">
                <a:off x="1587240" y="31820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358000">
                <a:off x="1636560" y="291816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5358000">
                <a:off x="1637640" y="298116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5358000">
                <a:off x="1639080" y="310788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358000">
                <a:off x="1426680" y="3087720"/>
                <a:ext cx="36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1598760" y="1525680"/>
            <a:ext cx="669240" cy="504720"/>
            <a:chOff x="1598760" y="1525680"/>
            <a:chExt cx="669240" cy="504720"/>
          </a:xfrm>
        </p:grpSpPr>
        <p:sp>
          <p:nvSpPr>
            <p:cNvPr id="755" name=""/>
            <p:cNvSpPr/>
            <p:nvPr/>
          </p:nvSpPr>
          <p:spPr>
            <a:xfrm rot="5358000">
              <a:off x="1599120" y="1562040"/>
              <a:ext cx="462240" cy="457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1600200" y="1525680"/>
              <a:ext cx="287280" cy="499320"/>
              <a:chOff x="1600200" y="1525680"/>
              <a:chExt cx="287280" cy="49932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1600200" y="1562760"/>
                <a:ext cx="166320" cy="462240"/>
                <a:chOff x="1600200" y="1562760"/>
                <a:chExt cx="166320" cy="462240"/>
              </a:xfrm>
            </p:grpSpPr>
            <p:sp>
              <p:nvSpPr>
                <p:cNvPr id="758" name=""/>
                <p:cNvSpPr/>
                <p:nvPr/>
              </p:nvSpPr>
              <p:spPr>
                <a:xfrm rot="16200000">
                  <a:off x="1536120" y="1710720"/>
                  <a:ext cx="294120" cy="16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16200000">
                  <a:off x="1648080" y="192744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16200000">
                  <a:off x="1648080" y="154908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V="1">
                  <a:off x="1683360" y="156276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16200000">
                  <a:off x="1662120" y="192024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rot="16200000">
                  <a:off x="1662120" y="162612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 rot="16200000">
                <a:off x="1630440" y="161244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1874160" y="1575360"/>
              <a:ext cx="393840" cy="258480"/>
              <a:chOff x="1874160" y="1575360"/>
              <a:chExt cx="393840" cy="258480"/>
            </a:xfrm>
          </p:grpSpPr>
          <p:sp>
            <p:nvSpPr>
              <p:cNvPr id="766" name=""/>
              <p:cNvSpPr/>
              <p:nvPr/>
            </p:nvSpPr>
            <p:spPr>
              <a:xfrm rot="21557400">
                <a:off x="1874520" y="1576080"/>
                <a:ext cx="185760" cy="10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21557400">
                <a:off x="1874520" y="1611720"/>
                <a:ext cx="1656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1891080" y="1626840"/>
                <a:ext cx="169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21557400">
                <a:off x="1922760" y="166176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1944000" y="1634400"/>
              <a:ext cx="255600" cy="396000"/>
              <a:chOff x="1944000" y="1634400"/>
              <a:chExt cx="255600" cy="396000"/>
            </a:xfrm>
          </p:grpSpPr>
          <p:sp>
            <p:nvSpPr>
              <p:cNvPr id="771" name=""/>
              <p:cNvSpPr/>
              <p:nvPr/>
            </p:nvSpPr>
            <p:spPr>
              <a:xfrm rot="16110000">
                <a:off x="1899720" y="1879200"/>
                <a:ext cx="196200" cy="10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6110000">
                <a:off x="1991160" y="2002680"/>
                <a:ext cx="17640" cy="3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1995480" y="1833120"/>
                <a:ext cx="468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6110000">
                <a:off x="1937880" y="172332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5" name=""/>
          <p:cNvGrpSpPr/>
          <p:nvPr/>
        </p:nvGrpSpPr>
        <p:grpSpPr>
          <a:xfrm>
            <a:off x="2360880" y="1526040"/>
            <a:ext cx="668880" cy="502560"/>
            <a:chOff x="2360880" y="1526040"/>
            <a:chExt cx="668880" cy="502560"/>
          </a:xfrm>
        </p:grpSpPr>
        <p:sp>
          <p:nvSpPr>
            <p:cNvPr id="776" name=""/>
            <p:cNvSpPr/>
            <p:nvPr/>
          </p:nvSpPr>
          <p:spPr>
            <a:xfrm rot="5358000">
              <a:off x="2360520" y="1563120"/>
              <a:ext cx="462600" cy="456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2362320" y="1526040"/>
              <a:ext cx="287280" cy="499680"/>
              <a:chOff x="2362320" y="1526040"/>
              <a:chExt cx="287280" cy="49968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2362320" y="1563120"/>
                <a:ext cx="165960" cy="462600"/>
                <a:chOff x="2362320" y="1563120"/>
                <a:chExt cx="165960" cy="462600"/>
              </a:xfrm>
            </p:grpSpPr>
            <p:sp>
              <p:nvSpPr>
                <p:cNvPr id="779" name=""/>
                <p:cNvSpPr/>
                <p:nvPr/>
              </p:nvSpPr>
              <p:spPr>
                <a:xfrm rot="16200000">
                  <a:off x="2297880" y="1711440"/>
                  <a:ext cx="294480" cy="16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rot="16200000">
                  <a:off x="2410200" y="1928520"/>
                  <a:ext cx="83880" cy="11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rot="16200000">
                  <a:off x="2410200" y="1550160"/>
                  <a:ext cx="83880" cy="11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2445120" y="1563120"/>
                  <a:ext cx="0" cy="46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rot="16200000">
                  <a:off x="2424240" y="192096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rot="16200000">
                  <a:off x="2424240" y="1626480"/>
                  <a:ext cx="4212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5" name=""/>
              <p:cNvSpPr/>
              <p:nvPr/>
            </p:nvSpPr>
            <p:spPr>
              <a:xfrm rot="16200000">
                <a:off x="2392560" y="161280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2635560" y="1575360"/>
              <a:ext cx="394200" cy="258480"/>
              <a:chOff x="2635560" y="1575360"/>
              <a:chExt cx="394200" cy="258480"/>
            </a:xfrm>
          </p:grpSpPr>
          <p:sp>
            <p:nvSpPr>
              <p:cNvPr id="787" name=""/>
              <p:cNvSpPr/>
              <p:nvPr/>
            </p:nvSpPr>
            <p:spPr>
              <a:xfrm rot="21557400">
                <a:off x="2635920" y="1576080"/>
                <a:ext cx="185760" cy="10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21557400">
                <a:off x="2635920" y="1611720"/>
                <a:ext cx="1656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2652480" y="1626840"/>
                <a:ext cx="1688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21557400">
                <a:off x="2684520" y="166176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2705040" y="1629360"/>
              <a:ext cx="254520" cy="399240"/>
              <a:chOff x="2705040" y="1629360"/>
              <a:chExt cx="254520" cy="399240"/>
            </a:xfrm>
          </p:grpSpPr>
          <p:sp>
            <p:nvSpPr>
              <p:cNvPr id="792" name=""/>
              <p:cNvSpPr/>
              <p:nvPr/>
            </p:nvSpPr>
            <p:spPr>
              <a:xfrm rot="16110000">
                <a:off x="2661120" y="1877760"/>
                <a:ext cx="195480" cy="10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6110000">
                <a:off x="2752200" y="2000880"/>
                <a:ext cx="17640" cy="3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 flipV="1">
                <a:off x="2756160" y="1831680"/>
                <a:ext cx="468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6110000">
                <a:off x="2697840" y="171828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6" name=""/>
          <p:cNvGrpSpPr/>
          <p:nvPr/>
        </p:nvGrpSpPr>
        <p:grpSpPr>
          <a:xfrm>
            <a:off x="1521360" y="3962880"/>
            <a:ext cx="645480" cy="688680"/>
            <a:chOff x="1521360" y="3962880"/>
            <a:chExt cx="645480" cy="688680"/>
          </a:xfrm>
        </p:grpSpPr>
        <p:sp>
          <p:nvSpPr>
            <p:cNvPr id="797" name=""/>
            <p:cNvSpPr/>
            <p:nvPr/>
          </p:nvSpPr>
          <p:spPr>
            <a:xfrm rot="16200000">
              <a:off x="1563480" y="4119120"/>
              <a:ext cx="462960" cy="461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857960" y="3962880"/>
              <a:ext cx="308880" cy="618120"/>
              <a:chOff x="1857960" y="3962880"/>
              <a:chExt cx="308880" cy="61812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1857960" y="4118040"/>
                <a:ext cx="167760" cy="462960"/>
                <a:chOff x="1857960" y="4118040"/>
                <a:chExt cx="167760" cy="462960"/>
              </a:xfrm>
            </p:grpSpPr>
            <p:sp>
              <p:nvSpPr>
                <p:cNvPr id="800" name=""/>
                <p:cNvSpPr/>
                <p:nvPr/>
              </p:nvSpPr>
              <p:spPr>
                <a:xfrm rot="16200000">
                  <a:off x="1710360" y="4265640"/>
                  <a:ext cx="462960" cy="16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rot="16200000">
                  <a:off x="1668240" y="4307400"/>
                  <a:ext cx="462960" cy="8388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941840" y="449676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V="1">
                  <a:off x="1941840" y="411804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rot="16200000">
                  <a:off x="1920960" y="4329000"/>
                  <a:ext cx="41760" cy="4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5" name=""/>
              <p:cNvSpPr/>
              <p:nvPr/>
            </p:nvSpPr>
            <p:spPr>
              <a:xfrm rot="16200000">
                <a:off x="1828440" y="4131360"/>
                <a:ext cx="50688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1857960" y="4118040"/>
                <a:ext cx="0" cy="46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521360" y="4118040"/>
              <a:ext cx="213840" cy="533520"/>
              <a:chOff x="1521360" y="4118040"/>
              <a:chExt cx="213840" cy="533520"/>
            </a:xfrm>
          </p:grpSpPr>
          <p:sp>
            <p:nvSpPr>
              <p:cNvPr id="808" name=""/>
              <p:cNvSpPr/>
              <p:nvPr/>
            </p:nvSpPr>
            <p:spPr>
              <a:xfrm rot="5358000">
                <a:off x="1416600" y="4266360"/>
                <a:ext cx="462960" cy="16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645920" y="4160880"/>
                <a:ext cx="468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flipV="1">
                <a:off x="1650600" y="4539960"/>
                <a:ext cx="8460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1567800" y="4539960"/>
                <a:ext cx="8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1646280" y="4118040"/>
                <a:ext cx="8352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1561680" y="4120200"/>
                <a:ext cx="842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5358000">
                <a:off x="1583280" y="41616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5358000">
                <a:off x="1584000" y="42037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5358000">
                <a:off x="1584360" y="42458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358000">
                <a:off x="1585080" y="42879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5358000">
                <a:off x="1585800" y="43513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5358000">
                <a:off x="1586160" y="43930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5358000">
                <a:off x="1586880" y="44355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5358000">
                <a:off x="1587240" y="44773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5358000">
                <a:off x="1636560" y="421380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5358000">
                <a:off x="1637640" y="427680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5358000">
                <a:off x="1639080" y="440316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5358000">
                <a:off x="1426680" y="4383360"/>
                <a:ext cx="36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6" name=""/>
          <p:cNvGrpSpPr/>
          <p:nvPr/>
        </p:nvGrpSpPr>
        <p:grpSpPr>
          <a:xfrm>
            <a:off x="1598400" y="3430440"/>
            <a:ext cx="669600" cy="502200"/>
            <a:chOff x="1598400" y="3430440"/>
            <a:chExt cx="669600" cy="502200"/>
          </a:xfrm>
        </p:grpSpPr>
        <p:sp>
          <p:nvSpPr>
            <p:cNvPr id="827" name=""/>
            <p:cNvSpPr/>
            <p:nvPr/>
          </p:nvSpPr>
          <p:spPr>
            <a:xfrm rot="5358000">
              <a:off x="1598400" y="3467520"/>
              <a:ext cx="462240" cy="456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1600200" y="3430440"/>
              <a:ext cx="287640" cy="499680"/>
              <a:chOff x="1600200" y="3430440"/>
              <a:chExt cx="287640" cy="49968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1600200" y="3467880"/>
                <a:ext cx="165960" cy="462240"/>
                <a:chOff x="1600200" y="3467880"/>
                <a:chExt cx="165960" cy="462240"/>
              </a:xfrm>
            </p:grpSpPr>
            <p:sp>
              <p:nvSpPr>
                <p:cNvPr id="830" name=""/>
                <p:cNvSpPr/>
                <p:nvPr/>
              </p:nvSpPr>
              <p:spPr>
                <a:xfrm rot="16200000">
                  <a:off x="1536120" y="3616200"/>
                  <a:ext cx="294120" cy="16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16200000">
                  <a:off x="1648080" y="3832920"/>
                  <a:ext cx="83880" cy="11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rot="16200000">
                  <a:off x="1648080" y="3454560"/>
                  <a:ext cx="83880" cy="11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1683000" y="346788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rot="16200000">
                  <a:off x="1662120" y="382536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rot="16200000">
                  <a:off x="1662120" y="353124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6" name=""/>
              <p:cNvSpPr/>
              <p:nvPr/>
            </p:nvSpPr>
            <p:spPr>
              <a:xfrm rot="16200000">
                <a:off x="1630800" y="351720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1873800" y="3480480"/>
              <a:ext cx="394200" cy="258480"/>
              <a:chOff x="1873800" y="3480480"/>
              <a:chExt cx="394200" cy="258480"/>
            </a:xfrm>
          </p:grpSpPr>
          <p:sp>
            <p:nvSpPr>
              <p:cNvPr id="838" name=""/>
              <p:cNvSpPr/>
              <p:nvPr/>
            </p:nvSpPr>
            <p:spPr>
              <a:xfrm rot="21557400">
                <a:off x="1874160" y="3481200"/>
                <a:ext cx="185760" cy="10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21557400">
                <a:off x="1874160" y="3516840"/>
                <a:ext cx="1656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1890720" y="3531960"/>
                <a:ext cx="1688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1557400">
                <a:off x="1922760" y="356688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1941480" y="3533400"/>
              <a:ext cx="258840" cy="399240"/>
              <a:chOff x="1941480" y="3533400"/>
              <a:chExt cx="258840" cy="399240"/>
            </a:xfrm>
          </p:grpSpPr>
          <p:sp>
            <p:nvSpPr>
              <p:cNvPr id="843" name=""/>
              <p:cNvSpPr/>
              <p:nvPr/>
            </p:nvSpPr>
            <p:spPr>
              <a:xfrm rot="16110000">
                <a:off x="1898280" y="3781080"/>
                <a:ext cx="195480" cy="10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16110000">
                <a:off x="1988640" y="3904920"/>
                <a:ext cx="1764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 flipV="1">
                <a:off x="1993320" y="3736080"/>
                <a:ext cx="4680" cy="17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6110000">
                <a:off x="1938600" y="362232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7" name=""/>
          <p:cNvGrpSpPr/>
          <p:nvPr/>
        </p:nvGrpSpPr>
        <p:grpSpPr>
          <a:xfrm>
            <a:off x="2360880" y="3430800"/>
            <a:ext cx="669240" cy="504360"/>
            <a:chOff x="2360880" y="3430800"/>
            <a:chExt cx="669240" cy="504360"/>
          </a:xfrm>
        </p:grpSpPr>
        <p:sp>
          <p:nvSpPr>
            <p:cNvPr id="848" name=""/>
            <p:cNvSpPr/>
            <p:nvPr/>
          </p:nvSpPr>
          <p:spPr>
            <a:xfrm rot="5358000">
              <a:off x="2361240" y="3467160"/>
              <a:ext cx="462240" cy="457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2362320" y="3430800"/>
              <a:ext cx="287280" cy="499320"/>
              <a:chOff x="2362320" y="3430800"/>
              <a:chExt cx="287280" cy="499320"/>
            </a:xfrm>
          </p:grpSpPr>
          <p:grpSp>
            <p:nvGrpSpPr>
              <p:cNvPr id="850" name=""/>
              <p:cNvGrpSpPr/>
              <p:nvPr/>
            </p:nvGrpSpPr>
            <p:grpSpPr>
              <a:xfrm>
                <a:off x="2362320" y="3467880"/>
                <a:ext cx="166320" cy="462240"/>
                <a:chOff x="2362320" y="3467880"/>
                <a:chExt cx="166320" cy="462240"/>
              </a:xfrm>
            </p:grpSpPr>
            <p:sp>
              <p:nvSpPr>
                <p:cNvPr id="851" name=""/>
                <p:cNvSpPr/>
                <p:nvPr/>
              </p:nvSpPr>
              <p:spPr>
                <a:xfrm rot="16200000">
                  <a:off x="2298240" y="3615840"/>
                  <a:ext cx="294120" cy="16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16200000">
                  <a:off x="2410200" y="383256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16200000">
                  <a:off x="2410200" y="345420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V="1">
                  <a:off x="2445480" y="346788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16200000">
                  <a:off x="2424240" y="382536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16200000">
                  <a:off x="2424240" y="353124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7" name=""/>
              <p:cNvSpPr/>
              <p:nvPr/>
            </p:nvSpPr>
            <p:spPr>
              <a:xfrm rot="16200000">
                <a:off x="2392560" y="351756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2636280" y="3480480"/>
              <a:ext cx="393840" cy="258480"/>
              <a:chOff x="2636280" y="3480480"/>
              <a:chExt cx="393840" cy="258480"/>
            </a:xfrm>
          </p:grpSpPr>
          <p:sp>
            <p:nvSpPr>
              <p:cNvPr id="859" name=""/>
              <p:cNvSpPr/>
              <p:nvPr/>
            </p:nvSpPr>
            <p:spPr>
              <a:xfrm rot="21557400">
                <a:off x="2636640" y="3481200"/>
                <a:ext cx="185760" cy="10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1557400">
                <a:off x="2636640" y="3516840"/>
                <a:ext cx="1656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2653200" y="3531960"/>
                <a:ext cx="169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21557400">
                <a:off x="2684880" y="356688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2706120" y="3538800"/>
              <a:ext cx="254880" cy="396360"/>
              <a:chOff x="2706120" y="3538800"/>
              <a:chExt cx="254880" cy="396360"/>
            </a:xfrm>
          </p:grpSpPr>
          <p:sp>
            <p:nvSpPr>
              <p:cNvPr id="864" name=""/>
              <p:cNvSpPr/>
              <p:nvPr/>
            </p:nvSpPr>
            <p:spPr>
              <a:xfrm rot="16110000">
                <a:off x="2662200" y="3783960"/>
                <a:ext cx="195840" cy="10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110000">
                <a:off x="2753280" y="3907440"/>
                <a:ext cx="17640" cy="3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 flipV="1">
                <a:off x="2757600" y="3737880"/>
                <a:ext cx="468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110000">
                <a:off x="2699280" y="362772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2283480" y="3962880"/>
            <a:ext cx="645480" cy="688680"/>
            <a:chOff x="2283480" y="3962880"/>
            <a:chExt cx="645480" cy="688680"/>
          </a:xfrm>
        </p:grpSpPr>
        <p:sp>
          <p:nvSpPr>
            <p:cNvPr id="869" name=""/>
            <p:cNvSpPr/>
            <p:nvPr/>
          </p:nvSpPr>
          <p:spPr>
            <a:xfrm rot="16200000">
              <a:off x="2325600" y="4119120"/>
              <a:ext cx="462960" cy="461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2620080" y="3962880"/>
              <a:ext cx="308880" cy="618120"/>
              <a:chOff x="2620080" y="3962880"/>
              <a:chExt cx="308880" cy="61812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2620080" y="4118040"/>
                <a:ext cx="167760" cy="462960"/>
                <a:chOff x="2620080" y="4118040"/>
                <a:chExt cx="167760" cy="462960"/>
              </a:xfrm>
            </p:grpSpPr>
            <p:sp>
              <p:nvSpPr>
                <p:cNvPr id="872" name=""/>
                <p:cNvSpPr/>
                <p:nvPr/>
              </p:nvSpPr>
              <p:spPr>
                <a:xfrm rot="16200000">
                  <a:off x="2472480" y="4265640"/>
                  <a:ext cx="462960" cy="16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rot="16200000">
                  <a:off x="2430360" y="4307400"/>
                  <a:ext cx="462960" cy="8388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703960" y="449676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2703960" y="411804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16200000">
                  <a:off x="2683080" y="4329000"/>
                  <a:ext cx="41760" cy="4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 rot="16200000">
                <a:off x="2590560" y="4131360"/>
                <a:ext cx="50688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2620080" y="4118040"/>
                <a:ext cx="0" cy="46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283480" y="4118040"/>
              <a:ext cx="213840" cy="533520"/>
              <a:chOff x="2283480" y="4118040"/>
              <a:chExt cx="213840" cy="533520"/>
            </a:xfrm>
          </p:grpSpPr>
          <p:sp>
            <p:nvSpPr>
              <p:cNvPr id="880" name=""/>
              <p:cNvSpPr/>
              <p:nvPr/>
            </p:nvSpPr>
            <p:spPr>
              <a:xfrm rot="5358000">
                <a:off x="2178720" y="4266360"/>
                <a:ext cx="462960" cy="16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408040" y="4160880"/>
                <a:ext cx="468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2412720" y="4539960"/>
                <a:ext cx="8460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2329920" y="4539960"/>
                <a:ext cx="8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2408400" y="4118040"/>
                <a:ext cx="8352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flipV="1">
                <a:off x="2323800" y="4120200"/>
                <a:ext cx="842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5358000">
                <a:off x="2345400" y="41616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5358000">
                <a:off x="2346120" y="42037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5358000">
                <a:off x="2346480" y="42458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5358000">
                <a:off x="2347200" y="42879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5358000">
                <a:off x="2347920" y="43513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5358000">
                <a:off x="2348280" y="43930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5358000">
                <a:off x="2349000" y="44355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5358000">
                <a:off x="2349360" y="44773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5358000">
                <a:off x="2398680" y="421380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5358000">
                <a:off x="2399760" y="427680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5358000">
                <a:off x="2401200" y="440316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5358000">
                <a:off x="2188800" y="4383360"/>
                <a:ext cx="36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684360" y="4680360"/>
            <a:ext cx="669240" cy="500040"/>
            <a:chOff x="684360" y="4680360"/>
            <a:chExt cx="669240" cy="500040"/>
          </a:xfrm>
        </p:grpSpPr>
        <p:sp>
          <p:nvSpPr>
            <p:cNvPr id="899" name=""/>
            <p:cNvSpPr/>
            <p:nvPr/>
          </p:nvSpPr>
          <p:spPr>
            <a:xfrm rot="5358000">
              <a:off x="684360" y="4717080"/>
              <a:ext cx="462600" cy="457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85800" y="4680360"/>
              <a:ext cx="287280" cy="499680"/>
              <a:chOff x="685800" y="4680360"/>
              <a:chExt cx="287280" cy="499680"/>
            </a:xfrm>
          </p:grpSpPr>
          <p:grpSp>
            <p:nvGrpSpPr>
              <p:cNvPr id="901" name=""/>
              <p:cNvGrpSpPr/>
              <p:nvPr/>
            </p:nvGrpSpPr>
            <p:grpSpPr>
              <a:xfrm>
                <a:off x="685800" y="4717440"/>
                <a:ext cx="166320" cy="462600"/>
                <a:chOff x="685800" y="4717440"/>
                <a:chExt cx="166320" cy="462600"/>
              </a:xfrm>
            </p:grpSpPr>
            <p:sp>
              <p:nvSpPr>
                <p:cNvPr id="902" name=""/>
                <p:cNvSpPr/>
                <p:nvPr/>
              </p:nvSpPr>
              <p:spPr>
                <a:xfrm rot="16200000">
                  <a:off x="621720" y="4865760"/>
                  <a:ext cx="294480" cy="16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6200000">
                  <a:off x="733680" y="508248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rot="16200000">
                  <a:off x="733680" y="470412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V="1">
                  <a:off x="768960" y="4717440"/>
                  <a:ext cx="0" cy="46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6200000">
                  <a:off x="747720" y="507528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rot="16200000">
                  <a:off x="747720" y="4780800"/>
                  <a:ext cx="4212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8" name=""/>
              <p:cNvSpPr/>
              <p:nvPr/>
            </p:nvSpPr>
            <p:spPr>
              <a:xfrm rot="16200000">
                <a:off x="716040" y="476712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959760" y="4729680"/>
              <a:ext cx="393840" cy="258480"/>
              <a:chOff x="959760" y="4729680"/>
              <a:chExt cx="393840" cy="258480"/>
            </a:xfrm>
          </p:grpSpPr>
          <p:sp>
            <p:nvSpPr>
              <p:cNvPr id="910" name=""/>
              <p:cNvSpPr/>
              <p:nvPr/>
            </p:nvSpPr>
            <p:spPr>
              <a:xfrm rot="21557400">
                <a:off x="960120" y="4730400"/>
                <a:ext cx="185760" cy="10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1557400">
                <a:off x="960120" y="4766040"/>
                <a:ext cx="1656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976680" y="4781160"/>
                <a:ext cx="169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1557400">
                <a:off x="1008360" y="481608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1026000" y="4788360"/>
              <a:ext cx="260640" cy="392040"/>
              <a:chOff x="1026000" y="4788360"/>
              <a:chExt cx="260640" cy="392040"/>
            </a:xfrm>
          </p:grpSpPr>
          <p:sp>
            <p:nvSpPr>
              <p:cNvPr id="915" name=""/>
              <p:cNvSpPr/>
              <p:nvPr/>
            </p:nvSpPr>
            <p:spPr>
              <a:xfrm rot="16110000">
                <a:off x="982800" y="5029200"/>
                <a:ext cx="195120" cy="10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6110000">
                <a:off x="1073520" y="5153040"/>
                <a:ext cx="1764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 flipV="1">
                <a:off x="1078200" y="4983840"/>
                <a:ext cx="4680" cy="17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6110000">
                <a:off x="1024920" y="487728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1522080" y="4680360"/>
            <a:ext cx="669600" cy="502200"/>
            <a:chOff x="1522080" y="4680360"/>
            <a:chExt cx="669600" cy="502200"/>
          </a:xfrm>
        </p:grpSpPr>
        <p:sp>
          <p:nvSpPr>
            <p:cNvPr id="920" name=""/>
            <p:cNvSpPr/>
            <p:nvPr/>
          </p:nvSpPr>
          <p:spPr>
            <a:xfrm rot="5358000">
              <a:off x="1522080" y="4717080"/>
              <a:ext cx="462600" cy="456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1523880" y="4680360"/>
              <a:ext cx="287640" cy="499680"/>
              <a:chOff x="1523880" y="4680360"/>
              <a:chExt cx="287640" cy="49968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1523880" y="4717440"/>
                <a:ext cx="165960" cy="462600"/>
                <a:chOff x="1523880" y="4717440"/>
                <a:chExt cx="165960" cy="462600"/>
              </a:xfrm>
            </p:grpSpPr>
            <p:sp>
              <p:nvSpPr>
                <p:cNvPr id="923" name=""/>
                <p:cNvSpPr/>
                <p:nvPr/>
              </p:nvSpPr>
              <p:spPr>
                <a:xfrm rot="16200000">
                  <a:off x="1459440" y="4865760"/>
                  <a:ext cx="294480" cy="165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rot="16200000">
                  <a:off x="1571760" y="5082840"/>
                  <a:ext cx="83880" cy="11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rot="16200000">
                  <a:off x="1571760" y="4704480"/>
                  <a:ext cx="83880" cy="11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V="1">
                  <a:off x="1606680" y="4717440"/>
                  <a:ext cx="0" cy="46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rot="16200000">
                  <a:off x="1585800" y="507528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rot="16200000">
                  <a:off x="1585800" y="4780800"/>
                  <a:ext cx="4212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 rot="16200000">
                <a:off x="1554480" y="476712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1797480" y="4729680"/>
              <a:ext cx="394200" cy="258480"/>
              <a:chOff x="1797480" y="4729680"/>
              <a:chExt cx="394200" cy="258480"/>
            </a:xfrm>
          </p:grpSpPr>
          <p:sp>
            <p:nvSpPr>
              <p:cNvPr id="931" name=""/>
              <p:cNvSpPr/>
              <p:nvPr/>
            </p:nvSpPr>
            <p:spPr>
              <a:xfrm rot="21557400">
                <a:off x="1797840" y="4730400"/>
                <a:ext cx="185760" cy="10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21557400">
                <a:off x="1797840" y="4766040"/>
                <a:ext cx="1656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1814400" y="4781160"/>
                <a:ext cx="1688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1557400">
                <a:off x="1846440" y="481608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1865160" y="4783320"/>
              <a:ext cx="258840" cy="399240"/>
              <a:chOff x="1865160" y="4783320"/>
              <a:chExt cx="258840" cy="399240"/>
            </a:xfrm>
          </p:grpSpPr>
          <p:sp>
            <p:nvSpPr>
              <p:cNvPr id="936" name=""/>
              <p:cNvSpPr/>
              <p:nvPr/>
            </p:nvSpPr>
            <p:spPr>
              <a:xfrm rot="16110000">
                <a:off x="1821960" y="5031000"/>
                <a:ext cx="195480" cy="10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6110000">
                <a:off x="1913040" y="5154840"/>
                <a:ext cx="1764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flipV="1">
                <a:off x="1917000" y="4985640"/>
                <a:ext cx="468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6110000">
                <a:off x="1862280" y="487224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0" name=""/>
          <p:cNvGrpSpPr/>
          <p:nvPr/>
        </p:nvGrpSpPr>
        <p:grpSpPr>
          <a:xfrm>
            <a:off x="1522080" y="5793120"/>
            <a:ext cx="669600" cy="504720"/>
            <a:chOff x="1522080" y="5793120"/>
            <a:chExt cx="669600" cy="504720"/>
          </a:xfrm>
        </p:grpSpPr>
        <p:sp>
          <p:nvSpPr>
            <p:cNvPr id="941" name=""/>
            <p:cNvSpPr/>
            <p:nvPr/>
          </p:nvSpPr>
          <p:spPr>
            <a:xfrm rot="5358000">
              <a:off x="1522440" y="5829120"/>
              <a:ext cx="461880" cy="457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1523880" y="5793120"/>
              <a:ext cx="287280" cy="499320"/>
              <a:chOff x="1523880" y="5793120"/>
              <a:chExt cx="287280" cy="499320"/>
            </a:xfrm>
          </p:grpSpPr>
          <p:grpSp>
            <p:nvGrpSpPr>
              <p:cNvPr id="943" name=""/>
              <p:cNvGrpSpPr/>
              <p:nvPr/>
            </p:nvGrpSpPr>
            <p:grpSpPr>
              <a:xfrm>
                <a:off x="1523880" y="5830560"/>
                <a:ext cx="166320" cy="461880"/>
                <a:chOff x="1523880" y="5830560"/>
                <a:chExt cx="166320" cy="461880"/>
              </a:xfrm>
            </p:grpSpPr>
            <p:sp>
              <p:nvSpPr>
                <p:cNvPr id="944" name=""/>
                <p:cNvSpPr/>
                <p:nvPr/>
              </p:nvSpPr>
              <p:spPr>
                <a:xfrm rot="16200000">
                  <a:off x="1460160" y="5978520"/>
                  <a:ext cx="293760" cy="16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rot="16200000">
                  <a:off x="1571760" y="619488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rot="16200000">
                  <a:off x="1571760" y="581688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V="1">
                  <a:off x="1607040" y="5830560"/>
                  <a:ext cx="0" cy="46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6200000">
                  <a:off x="1585800" y="618768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rot="16200000">
                  <a:off x="1585800" y="589392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 rot="16200000">
                <a:off x="1554120" y="587988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1797840" y="5842800"/>
              <a:ext cx="393840" cy="258480"/>
              <a:chOff x="1797840" y="5842800"/>
              <a:chExt cx="393840" cy="258480"/>
            </a:xfrm>
          </p:grpSpPr>
          <p:sp>
            <p:nvSpPr>
              <p:cNvPr id="952" name=""/>
              <p:cNvSpPr/>
              <p:nvPr/>
            </p:nvSpPr>
            <p:spPr>
              <a:xfrm rot="21557400">
                <a:off x="1798200" y="5843520"/>
                <a:ext cx="185760" cy="10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21557400">
                <a:off x="1798200" y="5879160"/>
                <a:ext cx="16560" cy="3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1814760" y="5893920"/>
                <a:ext cx="169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1557400">
                <a:off x="1846440" y="592920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1868040" y="5901480"/>
              <a:ext cx="256680" cy="396360"/>
              <a:chOff x="1868040" y="5901480"/>
              <a:chExt cx="256680" cy="396360"/>
            </a:xfrm>
          </p:grpSpPr>
          <p:sp>
            <p:nvSpPr>
              <p:cNvPr id="957" name=""/>
              <p:cNvSpPr/>
              <p:nvPr/>
            </p:nvSpPr>
            <p:spPr>
              <a:xfrm rot="16110000">
                <a:off x="1824120" y="6146640"/>
                <a:ext cx="195840" cy="10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6110000">
                <a:off x="1915560" y="6270120"/>
                <a:ext cx="17640" cy="3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flipV="1">
                <a:off x="1919520" y="6100560"/>
                <a:ext cx="468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6110000">
                <a:off x="1863000" y="599040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1" name=""/>
          <p:cNvGrpSpPr/>
          <p:nvPr/>
        </p:nvGrpSpPr>
        <p:grpSpPr>
          <a:xfrm>
            <a:off x="684360" y="5793120"/>
            <a:ext cx="669240" cy="504360"/>
            <a:chOff x="684360" y="5793120"/>
            <a:chExt cx="669240" cy="504360"/>
          </a:xfrm>
        </p:grpSpPr>
        <p:sp>
          <p:nvSpPr>
            <p:cNvPr id="962" name=""/>
            <p:cNvSpPr/>
            <p:nvPr/>
          </p:nvSpPr>
          <p:spPr>
            <a:xfrm rot="5358000">
              <a:off x="684360" y="5830200"/>
              <a:ext cx="462600" cy="457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685800" y="5793120"/>
              <a:ext cx="287280" cy="500040"/>
              <a:chOff x="685800" y="5793120"/>
              <a:chExt cx="287280" cy="50004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685800" y="5830200"/>
                <a:ext cx="166320" cy="462960"/>
                <a:chOff x="685800" y="5830200"/>
                <a:chExt cx="166320" cy="462960"/>
              </a:xfrm>
            </p:grpSpPr>
            <p:sp>
              <p:nvSpPr>
                <p:cNvPr id="965" name=""/>
                <p:cNvSpPr/>
                <p:nvPr/>
              </p:nvSpPr>
              <p:spPr>
                <a:xfrm rot="16200000">
                  <a:off x="621720" y="5978520"/>
                  <a:ext cx="294480" cy="16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rot="16200000">
                  <a:off x="733680" y="6195600"/>
                  <a:ext cx="8424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rot="16200000">
                  <a:off x="733680" y="5816880"/>
                  <a:ext cx="8424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V="1">
                  <a:off x="768960" y="5830200"/>
                  <a:ext cx="0" cy="46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rot="16200000">
                  <a:off x="747720" y="618840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rot="16200000">
                  <a:off x="747720" y="5893560"/>
                  <a:ext cx="4212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"/>
              <p:cNvSpPr/>
              <p:nvPr/>
            </p:nvSpPr>
            <p:spPr>
              <a:xfrm rot="16200000">
                <a:off x="716040" y="587988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959760" y="5842800"/>
              <a:ext cx="393840" cy="258480"/>
              <a:chOff x="959760" y="5842800"/>
              <a:chExt cx="393840" cy="258480"/>
            </a:xfrm>
          </p:grpSpPr>
          <p:sp>
            <p:nvSpPr>
              <p:cNvPr id="973" name=""/>
              <p:cNvSpPr/>
              <p:nvPr/>
            </p:nvSpPr>
            <p:spPr>
              <a:xfrm rot="21557400">
                <a:off x="960120" y="5843520"/>
                <a:ext cx="185760" cy="10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21557400">
                <a:off x="960120" y="5879160"/>
                <a:ext cx="1656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976680" y="5894280"/>
                <a:ext cx="169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21557400">
                <a:off x="1008360" y="592920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1029600" y="5901120"/>
              <a:ext cx="253440" cy="396360"/>
              <a:chOff x="1029600" y="5901120"/>
              <a:chExt cx="253440" cy="396360"/>
            </a:xfrm>
          </p:grpSpPr>
          <p:sp>
            <p:nvSpPr>
              <p:cNvPr id="978" name=""/>
              <p:cNvSpPr/>
              <p:nvPr/>
            </p:nvSpPr>
            <p:spPr>
              <a:xfrm rot="16110000">
                <a:off x="985320" y="6146280"/>
                <a:ext cx="196200" cy="10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6110000">
                <a:off x="1076760" y="6269760"/>
                <a:ext cx="17640" cy="3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1081080" y="6100200"/>
                <a:ext cx="468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6110000">
                <a:off x="1021320" y="599004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2" name=""/>
          <p:cNvGrpSpPr/>
          <p:nvPr/>
        </p:nvGrpSpPr>
        <p:grpSpPr>
          <a:xfrm>
            <a:off x="1523880" y="5257800"/>
            <a:ext cx="462240" cy="486360"/>
            <a:chOff x="1523880" y="5257800"/>
            <a:chExt cx="462240" cy="486360"/>
          </a:xfrm>
        </p:grpSpPr>
        <p:sp>
          <p:nvSpPr>
            <p:cNvPr id="983" name=""/>
            <p:cNvSpPr/>
            <p:nvPr/>
          </p:nvSpPr>
          <p:spPr>
            <a:xfrm rot="5400000">
              <a:off x="1523880" y="5257800"/>
              <a:ext cx="461520" cy="4618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1523880" y="5257800"/>
              <a:ext cx="167760" cy="461520"/>
              <a:chOff x="1523880" y="5257800"/>
              <a:chExt cx="167760" cy="461520"/>
            </a:xfrm>
          </p:grpSpPr>
          <p:sp>
            <p:nvSpPr>
              <p:cNvPr id="985" name=""/>
              <p:cNvSpPr/>
              <p:nvPr/>
            </p:nvSpPr>
            <p:spPr>
              <a:xfrm rot="5400000">
                <a:off x="1418760" y="5446440"/>
                <a:ext cx="377640" cy="16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hurch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5400000">
                <a:off x="1523880" y="5257800"/>
                <a:ext cx="83880" cy="8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607760" y="5341680"/>
                <a:ext cx="0" cy="37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1667520" y="5341680"/>
              <a:ext cx="318600" cy="402480"/>
              <a:chOff x="1667520" y="5341680"/>
              <a:chExt cx="318600" cy="402480"/>
            </a:xfrm>
          </p:grpSpPr>
          <p:sp>
            <p:nvSpPr>
              <p:cNvPr id="989" name=""/>
              <p:cNvSpPr/>
              <p:nvPr/>
            </p:nvSpPr>
            <p:spPr>
              <a:xfrm rot="5400000">
                <a:off x="1744200" y="5414760"/>
                <a:ext cx="314640" cy="168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01880" y="5425200"/>
                <a:ext cx="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 flipV="1">
                <a:off x="1901880" y="5572080"/>
                <a:ext cx="8388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1818000" y="5572440"/>
                <a:ext cx="8388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1902240" y="5341680"/>
                <a:ext cx="83880" cy="8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 flipV="1">
                <a:off x="1818000" y="5341680"/>
                <a:ext cx="83880" cy="8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5400000">
                <a:off x="1891440" y="539388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5400000">
                <a:off x="1891440" y="556200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5400000">
                <a:off x="1580400" y="548712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8" name=""/>
          <p:cNvGrpSpPr/>
          <p:nvPr/>
        </p:nvGrpSpPr>
        <p:grpSpPr>
          <a:xfrm>
            <a:off x="2360880" y="5183280"/>
            <a:ext cx="669240" cy="503280"/>
            <a:chOff x="2360880" y="5183280"/>
            <a:chExt cx="669240" cy="503280"/>
          </a:xfrm>
        </p:grpSpPr>
        <p:sp>
          <p:nvSpPr>
            <p:cNvPr id="999" name=""/>
            <p:cNvSpPr/>
            <p:nvPr/>
          </p:nvSpPr>
          <p:spPr>
            <a:xfrm rot="5358000">
              <a:off x="2361240" y="5219640"/>
              <a:ext cx="462240" cy="457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2362320" y="5183280"/>
              <a:ext cx="287280" cy="499320"/>
              <a:chOff x="2362320" y="5183280"/>
              <a:chExt cx="287280" cy="499320"/>
            </a:xfrm>
          </p:grpSpPr>
          <p:grpSp>
            <p:nvGrpSpPr>
              <p:cNvPr id="1001" name=""/>
              <p:cNvGrpSpPr/>
              <p:nvPr/>
            </p:nvGrpSpPr>
            <p:grpSpPr>
              <a:xfrm>
                <a:off x="2362320" y="5220360"/>
                <a:ext cx="166320" cy="462240"/>
                <a:chOff x="2362320" y="5220360"/>
                <a:chExt cx="166320" cy="462240"/>
              </a:xfrm>
            </p:grpSpPr>
            <p:sp>
              <p:nvSpPr>
                <p:cNvPr id="1002" name=""/>
                <p:cNvSpPr/>
                <p:nvPr/>
              </p:nvSpPr>
              <p:spPr>
                <a:xfrm rot="16200000">
                  <a:off x="2298240" y="5368320"/>
                  <a:ext cx="294120" cy="16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6200000">
                  <a:off x="2410200" y="558504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16200000">
                  <a:off x="2410200" y="5206680"/>
                  <a:ext cx="83880" cy="11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2445480" y="5220360"/>
                  <a:ext cx="0" cy="46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2424240" y="557784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rot="16200000">
                  <a:off x="2424240" y="5283720"/>
                  <a:ext cx="41760" cy="41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8" name=""/>
              <p:cNvSpPr/>
              <p:nvPr/>
            </p:nvSpPr>
            <p:spPr>
              <a:xfrm rot="16200000">
                <a:off x="2392560" y="5270040"/>
                <a:ext cx="3438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2636280" y="5232960"/>
              <a:ext cx="393840" cy="258480"/>
              <a:chOff x="2636280" y="5232960"/>
              <a:chExt cx="393840" cy="258480"/>
            </a:xfrm>
          </p:grpSpPr>
          <p:sp>
            <p:nvSpPr>
              <p:cNvPr id="1010" name=""/>
              <p:cNvSpPr/>
              <p:nvPr/>
            </p:nvSpPr>
            <p:spPr>
              <a:xfrm rot="21557400">
                <a:off x="2636640" y="5233680"/>
                <a:ext cx="185760" cy="10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21557400">
                <a:off x="2636640" y="5269320"/>
                <a:ext cx="16560" cy="3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653200" y="5284080"/>
                <a:ext cx="1692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21557400">
                <a:off x="2684880" y="531936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2705760" y="5293800"/>
              <a:ext cx="252000" cy="392760"/>
              <a:chOff x="2705760" y="5293800"/>
              <a:chExt cx="252000" cy="392760"/>
            </a:xfrm>
          </p:grpSpPr>
          <p:sp>
            <p:nvSpPr>
              <p:cNvPr id="1015" name=""/>
              <p:cNvSpPr/>
              <p:nvPr/>
            </p:nvSpPr>
            <p:spPr>
              <a:xfrm rot="16110000">
                <a:off x="2661840" y="5535360"/>
                <a:ext cx="195840" cy="10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6110000">
                <a:off x="2753280" y="5658840"/>
                <a:ext cx="17640" cy="3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2757600" y="5489640"/>
                <a:ext cx="468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110000">
                <a:off x="2696040" y="5382720"/>
                <a:ext cx="34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9" name=""/>
          <p:cNvGrpSpPr/>
          <p:nvPr/>
        </p:nvGrpSpPr>
        <p:grpSpPr>
          <a:xfrm>
            <a:off x="2283480" y="5715360"/>
            <a:ext cx="645480" cy="688680"/>
            <a:chOff x="2283480" y="5715360"/>
            <a:chExt cx="645480" cy="688680"/>
          </a:xfrm>
        </p:grpSpPr>
        <p:sp>
          <p:nvSpPr>
            <p:cNvPr id="1020" name=""/>
            <p:cNvSpPr/>
            <p:nvPr/>
          </p:nvSpPr>
          <p:spPr>
            <a:xfrm rot="16200000">
              <a:off x="2325600" y="5871600"/>
              <a:ext cx="462960" cy="461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2620080" y="5715360"/>
              <a:ext cx="308880" cy="618120"/>
              <a:chOff x="2620080" y="5715360"/>
              <a:chExt cx="308880" cy="61812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2620080" y="5870520"/>
                <a:ext cx="167760" cy="462960"/>
                <a:chOff x="2620080" y="5870520"/>
                <a:chExt cx="167760" cy="462960"/>
              </a:xfrm>
            </p:grpSpPr>
            <p:sp>
              <p:nvSpPr>
                <p:cNvPr id="1023" name=""/>
                <p:cNvSpPr/>
                <p:nvPr/>
              </p:nvSpPr>
              <p:spPr>
                <a:xfrm rot="16200000">
                  <a:off x="2472480" y="6018120"/>
                  <a:ext cx="462960" cy="16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rot="16200000">
                  <a:off x="2430360" y="6059880"/>
                  <a:ext cx="462960" cy="8388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2703960" y="624924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V="1">
                  <a:off x="2703960" y="587052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rot="16200000">
                  <a:off x="2683080" y="6081480"/>
                  <a:ext cx="41760" cy="4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 rot="16200000">
                <a:off x="2590560" y="5883840"/>
                <a:ext cx="50688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2620080" y="5870520"/>
                <a:ext cx="0" cy="46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2283480" y="5870520"/>
              <a:ext cx="213840" cy="533520"/>
              <a:chOff x="2283480" y="5870520"/>
              <a:chExt cx="213840" cy="533520"/>
            </a:xfrm>
          </p:grpSpPr>
          <p:sp>
            <p:nvSpPr>
              <p:cNvPr id="1031" name=""/>
              <p:cNvSpPr/>
              <p:nvPr/>
            </p:nvSpPr>
            <p:spPr>
              <a:xfrm rot="5358000">
                <a:off x="2178720" y="6018840"/>
                <a:ext cx="462960" cy="16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408040" y="5913360"/>
                <a:ext cx="468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 flipV="1">
                <a:off x="2412720" y="6292440"/>
                <a:ext cx="8460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329920" y="6292440"/>
                <a:ext cx="8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2408400" y="5870520"/>
                <a:ext cx="8352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 flipV="1">
                <a:off x="2323800" y="5872680"/>
                <a:ext cx="842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5358000">
                <a:off x="2345400" y="59140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5358000">
                <a:off x="2346120" y="59562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5358000">
                <a:off x="2346480" y="59983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5358000">
                <a:off x="2347200" y="60404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5358000">
                <a:off x="2347920" y="61038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5358000">
                <a:off x="2348280" y="61455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5358000">
                <a:off x="2349000" y="61880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5358000">
                <a:off x="2349360" y="62298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5358000">
                <a:off x="2398680" y="596628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5358000">
                <a:off x="2399760" y="602928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5358000">
                <a:off x="2401200" y="615564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5358000">
                <a:off x="2188800" y="6135840"/>
                <a:ext cx="36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9" name=""/>
          <p:cNvSpPr/>
          <p:nvPr/>
        </p:nvSpPr>
        <p:spPr>
          <a:xfrm>
            <a:off x="1371600" y="228600"/>
            <a:ext cx="0" cy="662940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86000" y="228600"/>
            <a:ext cx="0" cy="624852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371600" y="3962520"/>
            <a:ext cx="190512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1520280" y="2058120"/>
            <a:ext cx="648360" cy="689400"/>
            <a:chOff x="1520280" y="2058120"/>
            <a:chExt cx="648360" cy="689400"/>
          </a:xfrm>
        </p:grpSpPr>
        <p:sp>
          <p:nvSpPr>
            <p:cNvPr id="1053" name=""/>
            <p:cNvSpPr/>
            <p:nvPr/>
          </p:nvSpPr>
          <p:spPr>
            <a:xfrm rot="16200000">
              <a:off x="1564560" y="2214720"/>
              <a:ext cx="463680" cy="461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1859760" y="2058120"/>
              <a:ext cx="308880" cy="618480"/>
              <a:chOff x="1859760" y="2058120"/>
              <a:chExt cx="308880" cy="618480"/>
            </a:xfrm>
          </p:grpSpPr>
          <p:grpSp>
            <p:nvGrpSpPr>
              <p:cNvPr id="1055" name=""/>
              <p:cNvGrpSpPr/>
              <p:nvPr/>
            </p:nvGrpSpPr>
            <p:grpSpPr>
              <a:xfrm>
                <a:off x="1859760" y="2213280"/>
                <a:ext cx="167760" cy="463320"/>
                <a:chOff x="1859760" y="2213280"/>
                <a:chExt cx="167760" cy="463320"/>
              </a:xfrm>
            </p:grpSpPr>
            <p:sp>
              <p:nvSpPr>
                <p:cNvPr id="1056" name=""/>
                <p:cNvSpPr/>
                <p:nvPr/>
              </p:nvSpPr>
              <p:spPr>
                <a:xfrm rot="16200000">
                  <a:off x="1711800" y="2360880"/>
                  <a:ext cx="463320" cy="16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rot="16200000">
                  <a:off x="1670040" y="2403000"/>
                  <a:ext cx="463320" cy="8388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943640" y="259236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V="1">
                  <a:off x="1943640" y="221328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rot="16200000">
                  <a:off x="1922760" y="2424240"/>
                  <a:ext cx="41760" cy="4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1" name=""/>
              <p:cNvSpPr/>
              <p:nvPr/>
            </p:nvSpPr>
            <p:spPr>
              <a:xfrm rot="16200000">
                <a:off x="1830240" y="2226600"/>
                <a:ext cx="50688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1859760" y="2213280"/>
                <a:ext cx="0" cy="46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1520280" y="2212560"/>
              <a:ext cx="217080" cy="534960"/>
              <a:chOff x="1520280" y="2212560"/>
              <a:chExt cx="217080" cy="534960"/>
            </a:xfrm>
          </p:grpSpPr>
          <p:sp>
            <p:nvSpPr>
              <p:cNvPr id="1064" name=""/>
              <p:cNvSpPr/>
              <p:nvPr/>
            </p:nvSpPr>
            <p:spPr>
              <a:xfrm rot="5358000">
                <a:off x="1418400" y="2361600"/>
                <a:ext cx="463680" cy="16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648440" y="225612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flipV="1">
                <a:off x="1653120" y="2635200"/>
                <a:ext cx="8424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1570320" y="2635200"/>
                <a:ext cx="8316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1648440" y="2212560"/>
                <a:ext cx="8316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 flipV="1">
                <a:off x="1564200" y="2214720"/>
                <a:ext cx="8424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5358000">
                <a:off x="1585440" y="22568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5358000">
                <a:off x="1586160" y="22989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5358000">
                <a:off x="1586520" y="23410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5358000">
                <a:off x="1587240" y="23832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5358000">
                <a:off x="1587960" y="24465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5358000">
                <a:off x="1588320" y="24886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5358000">
                <a:off x="1589040" y="25308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5358000">
                <a:off x="1589400" y="25729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5358000">
                <a:off x="1638720" y="230868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5358000">
                <a:off x="1639800" y="237204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5358000">
                <a:off x="1641240" y="249876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5358000">
                <a:off x="1425600" y="2479320"/>
                <a:ext cx="36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2" name=""/>
          <p:cNvGrpSpPr/>
          <p:nvPr/>
        </p:nvGrpSpPr>
        <p:grpSpPr>
          <a:xfrm>
            <a:off x="2358720" y="2058120"/>
            <a:ext cx="648360" cy="689400"/>
            <a:chOff x="2358720" y="2058120"/>
            <a:chExt cx="648360" cy="689400"/>
          </a:xfrm>
        </p:grpSpPr>
        <p:sp>
          <p:nvSpPr>
            <p:cNvPr id="1083" name=""/>
            <p:cNvSpPr/>
            <p:nvPr/>
          </p:nvSpPr>
          <p:spPr>
            <a:xfrm rot="16200000">
              <a:off x="2403000" y="2214720"/>
              <a:ext cx="463680" cy="461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2698200" y="2058120"/>
              <a:ext cx="308880" cy="618480"/>
              <a:chOff x="2698200" y="2058120"/>
              <a:chExt cx="308880" cy="618480"/>
            </a:xfrm>
          </p:grpSpPr>
          <p:grpSp>
            <p:nvGrpSpPr>
              <p:cNvPr id="1085" name=""/>
              <p:cNvGrpSpPr/>
              <p:nvPr/>
            </p:nvGrpSpPr>
            <p:grpSpPr>
              <a:xfrm>
                <a:off x="2698200" y="2213280"/>
                <a:ext cx="167760" cy="463320"/>
                <a:chOff x="2698200" y="2213280"/>
                <a:chExt cx="167760" cy="463320"/>
              </a:xfrm>
            </p:grpSpPr>
            <p:sp>
              <p:nvSpPr>
                <p:cNvPr id="1086" name=""/>
                <p:cNvSpPr/>
                <p:nvPr/>
              </p:nvSpPr>
              <p:spPr>
                <a:xfrm rot="16200000">
                  <a:off x="2550240" y="2360880"/>
                  <a:ext cx="463320" cy="16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6200000">
                  <a:off x="2508480" y="2403000"/>
                  <a:ext cx="463320" cy="8388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2782080" y="259236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V="1">
                  <a:off x="2782080" y="2213280"/>
                  <a:ext cx="83880" cy="8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rot="16200000">
                  <a:off x="2761200" y="2424240"/>
                  <a:ext cx="41760" cy="4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1" name=""/>
              <p:cNvSpPr/>
              <p:nvPr/>
            </p:nvSpPr>
            <p:spPr>
              <a:xfrm rot="16200000">
                <a:off x="2668680" y="2226600"/>
                <a:ext cx="50688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2698200" y="2213280"/>
                <a:ext cx="0" cy="46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2358720" y="2212560"/>
              <a:ext cx="217080" cy="534960"/>
              <a:chOff x="2358720" y="2212560"/>
              <a:chExt cx="217080" cy="534960"/>
            </a:xfrm>
          </p:grpSpPr>
          <p:sp>
            <p:nvSpPr>
              <p:cNvPr id="1094" name=""/>
              <p:cNvSpPr/>
              <p:nvPr/>
            </p:nvSpPr>
            <p:spPr>
              <a:xfrm rot="5358000">
                <a:off x="2256840" y="2361600"/>
                <a:ext cx="463680" cy="16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486880" y="225612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2491560" y="2635200"/>
                <a:ext cx="8424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2408760" y="2635200"/>
                <a:ext cx="8316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486880" y="2212560"/>
                <a:ext cx="8316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 flipV="1">
                <a:off x="2402640" y="2214720"/>
                <a:ext cx="8424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5358000">
                <a:off x="2423880" y="225684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5358000">
                <a:off x="2424600" y="22989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5358000">
                <a:off x="2424960" y="23410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5358000">
                <a:off x="2425680" y="23832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5358000">
                <a:off x="2426400" y="244656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5358000">
                <a:off x="2426760" y="248868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5358000">
                <a:off x="2427480" y="253080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5358000">
                <a:off x="2427840" y="2572920"/>
                <a:ext cx="20880" cy="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5358000">
                <a:off x="2477160" y="230868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5358000">
                <a:off x="2478240" y="237204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5358000">
                <a:off x="2479680" y="2498760"/>
                <a:ext cx="2088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5358000">
                <a:off x="2264040" y="2479320"/>
                <a:ext cx="363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2" name=""/>
          <p:cNvSpPr/>
          <p:nvPr/>
        </p:nvSpPr>
        <p:spPr>
          <a:xfrm>
            <a:off x="2362320" y="2819520"/>
            <a:ext cx="99036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362320" y="5791320"/>
            <a:ext cx="99036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1600" y="6477120"/>
            <a:ext cx="99072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3520" y="228600"/>
            <a:ext cx="274320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400480" cy="142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5280" y="1752480"/>
            <a:ext cx="236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en Building, later burned by Union Ca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10160" cy="142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45360" y="1812960"/>
            <a:ext cx="191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therburn’s Tavern (later Sto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520" y="2133720"/>
            <a:ext cx="4133880" cy="142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86520" y="364176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cker 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1533240" cy="142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536160" y="1736640"/>
            <a:ext cx="202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sident’s House accidentall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rned by French during Yorktow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876920" y="2133720"/>
            <a:ext cx="2219040" cy="1428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67800" y="356544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ll 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33520" y="3886200"/>
            <a:ext cx="1314360" cy="142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3880" y="5394240"/>
            <a:ext cx="10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lt Apothec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362320" y="3962520"/>
            <a:ext cx="1904760" cy="133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0920" y="539424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udwell 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4724280" y="4038480"/>
            <a:ext cx="1905120" cy="1238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59640" y="5318280"/>
            <a:ext cx="285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overnor’s Palace (burned down before civil Wa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icks used by Union for making chimneys in cam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810240" cy="2190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81240" y="2498760"/>
            <a:ext cx="87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ddy 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1676160" cy="142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11320" y="173664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ythe 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4419720"/>
            <a:ext cx="7086600" cy="685800"/>
          </a:xfrm>
          <a:custGeom>
            <a:avLst/>
            <a:gdLst/>
            <a:ahLst/>
            <a:rect l="l" t="t" r="r" b="b"/>
            <a:pathLst>
              <a:path w="4464" h="432">
                <a:moveTo>
                  <a:pt x="0" y="384"/>
                </a:moveTo>
                <a:lnTo>
                  <a:pt x="432" y="0"/>
                </a:lnTo>
                <a:lnTo>
                  <a:pt x="4464" y="0"/>
                </a:lnTo>
                <a:lnTo>
                  <a:pt x="4464" y="432"/>
                </a:lnTo>
                <a:lnTo>
                  <a:pt x="336" y="432"/>
                </a:lnTo>
              </a:path>
            </a:pathLst>
          </a:custGeom>
          <a:noFill/>
          <a:ln w="381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5105520"/>
            <a:ext cx="160020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581280"/>
            <a:ext cx="762120" cy="1524240"/>
          </a:xfrm>
          <a:custGeom>
            <a:avLst/>
            <a:gdLst/>
            <a:ahLst/>
            <a:rect l="l" t="t" r="r" b="b"/>
            <a:pathLst>
              <a:path w="480" h="960">
                <a:moveTo>
                  <a:pt x="480" y="960"/>
                </a:moveTo>
                <a:lnTo>
                  <a:pt x="480" y="0"/>
                </a:lnTo>
                <a:lnTo>
                  <a:pt x="0" y="0"/>
                </a:lnTo>
                <a:lnTo>
                  <a:pt x="0" y="960"/>
                </a:ln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962520"/>
            <a:ext cx="609480" cy="2819160"/>
          </a:xfrm>
          <a:custGeom>
            <a:avLst/>
            <a:gdLst/>
            <a:ahLst/>
            <a:rect l="l" t="t" r="r" b="b"/>
            <a:pathLst>
              <a:path w="384" h="2016">
                <a:moveTo>
                  <a:pt x="384" y="2016"/>
                </a:moveTo>
                <a:lnTo>
                  <a:pt x="384" y="33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2819520"/>
            <a:ext cx="304560" cy="1600200"/>
          </a:xfrm>
          <a:custGeom>
            <a:avLst/>
            <a:gdLst/>
            <a:ahLst/>
            <a:rect l="l" t="t" r="r" b="b"/>
            <a:pathLst>
              <a:path w="192" h="1008">
                <a:moveTo>
                  <a:pt x="0" y="1008"/>
                </a:moveTo>
                <a:lnTo>
                  <a:pt x="0" y="0"/>
                </a:lnTo>
                <a:lnTo>
                  <a:pt x="192" y="0"/>
                </a:lnTo>
                <a:lnTo>
                  <a:pt x="192" y="1008"/>
                </a:ln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3581280"/>
            <a:ext cx="76212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3733920"/>
            <a:ext cx="0" cy="137160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4267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3581280"/>
            <a:ext cx="838440" cy="228600"/>
          </a:xfrm>
          <a:custGeom>
            <a:avLst/>
            <a:gdLst/>
            <a:ahLst/>
            <a:rect l="l" t="t" r="r" b="b"/>
            <a:pathLst>
              <a:path w="528" h="144">
                <a:moveTo>
                  <a:pt x="0" y="0"/>
                </a:moveTo>
                <a:lnTo>
                  <a:pt x="528" y="0"/>
                </a:lnTo>
                <a:lnTo>
                  <a:pt x="528" y="144"/>
                </a:ln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5760" y="510552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ancis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31760" y="5105520"/>
            <a:ext cx="77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rk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81640" y="4175280"/>
            <a:ext cx="14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uke of Glouchester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085400">
            <a:off x="3927240" y="4685400"/>
            <a:ext cx="77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ueen’s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28200">
            <a:off x="1312560" y="3869640"/>
            <a:ext cx="6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nry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5880" y="3352680"/>
            <a:ext cx="10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ince George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131000">
            <a:off x="2050920" y="465696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assau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687240" y="56379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undary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2972520" y="343152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lace 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371800">
            <a:off x="533160" y="3962160"/>
            <a:ext cx="92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chmond 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137600">
            <a:off x="383400" y="4876560"/>
            <a:ext cx="95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mestown 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4440" y="3429000"/>
            <a:ext cx="62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llia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amp; M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26840" y="40384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82320" y="447984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3920" y="2727360"/>
            <a:ext cx="58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er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21320" y="45720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8680" y="3581280"/>
            <a:ext cx="76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87120" y="394668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vern’s and s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772400" y="4267080"/>
            <a:ext cx="866880" cy="797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-380880" y="4114800"/>
            <a:ext cx="1295280" cy="77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600200" y="228600"/>
            <a:ext cx="280980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419720" y="228600"/>
            <a:ext cx="413388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324480" y="1600200"/>
            <a:ext cx="221940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304920" y="228600"/>
            <a:ext cx="1314360" cy="1428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2590920" y="3952800"/>
            <a:ext cx="533160" cy="44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2743200" y="3559320"/>
            <a:ext cx="457200" cy="388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 flipH="1" rot="10800000">
            <a:off x="3581280" y="2971800"/>
            <a:ext cx="1447920" cy="56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1828800" y="5715000"/>
            <a:ext cx="2590920" cy="1114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8839080" y="914400"/>
            <a:ext cx="0" cy="419112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355000">
            <a:off x="8123760" y="3305160"/>
            <a:ext cx="121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pital Landing 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54320" y="5927760"/>
            <a:ext cx="249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Mill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What (homes looking like Basset’s Hal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Individual (Carter, Wren, Capital, ?? ,  ??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53341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74560" y="5318280"/>
            <a:ext cx="125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00 yds (14 block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998640"/>
            <a:ext cx="1828800" cy="1784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81080" y="1295280"/>
            <a:ext cx="1778040" cy="1481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1219320"/>
            <a:ext cx="1066680" cy="90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6320" y="187200"/>
            <a:ext cx="27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ity Bl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1219320"/>
            <a:ext cx="1828800" cy="16002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200" y="2803680"/>
            <a:ext cx="28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de 1                                                              Sid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81600" y="1447920"/>
          <a:ext cx="5162400" cy="413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81600" y="1447920"/>
                    <a:ext cx="51624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838080" y="3733920"/>
            <a:ext cx="2810160" cy="142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-457200" y="5181480"/>
            <a:ext cx="4133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rot="5358000">
            <a:off x="685440" y="2285640"/>
            <a:ext cx="16765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85800" y="4495320"/>
            <a:ext cx="167652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52480" y="4495320"/>
            <a:ext cx="627120" cy="1676880"/>
            <a:chOff x="1752480" y="4495320"/>
            <a:chExt cx="627120" cy="1676880"/>
          </a:xfrm>
        </p:grpSpPr>
        <p:grpSp>
          <p:nvGrpSpPr>
            <p:cNvPr id="131" name=""/>
            <p:cNvGrpSpPr/>
            <p:nvPr/>
          </p:nvGrpSpPr>
          <p:grpSpPr>
            <a:xfrm>
              <a:off x="1752480" y="4495320"/>
              <a:ext cx="609480" cy="1676880"/>
              <a:chOff x="1752480" y="4495320"/>
              <a:chExt cx="609480" cy="1676880"/>
            </a:xfrm>
          </p:grpSpPr>
          <p:sp>
            <p:nvSpPr>
              <p:cNvPr id="132" name=""/>
              <p:cNvSpPr/>
              <p:nvPr/>
            </p:nvSpPr>
            <p:spPr>
              <a:xfrm rot="16200000">
                <a:off x="1218960" y="5028840"/>
                <a:ext cx="167652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6200000">
                <a:off x="1066680" y="5181120"/>
                <a:ext cx="1676520" cy="304920"/>
              </a:xfrm>
              <a:custGeom>
                <a:avLst/>
                <a:gdLst/>
                <a:ahLst/>
                <a:rect l="l" t="t" r="r" b="b"/>
                <a:pathLst>
                  <a:path w="1056" h="192">
                    <a:moveTo>
                      <a:pt x="0" y="0"/>
                    </a:moveTo>
                    <a:lnTo>
                      <a:pt x="192" y="192"/>
                    </a:lnTo>
                    <a:lnTo>
                      <a:pt x="864" y="192"/>
                    </a:lnTo>
                    <a:lnTo>
                      <a:pt x="1056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57400" y="5867280"/>
                <a:ext cx="3045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057400" y="4495320"/>
                <a:ext cx="3045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1981080" y="52574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rot="16200000">
              <a:off x="1842840" y="5252400"/>
              <a:ext cx="826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urt Ho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752480" y="44953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9320" y="2296800"/>
            <a:ext cx="609480" cy="1676520"/>
            <a:chOff x="679320" y="2296800"/>
            <a:chExt cx="609480" cy="1676520"/>
          </a:xfrm>
        </p:grpSpPr>
        <p:grpSp>
          <p:nvGrpSpPr>
            <p:cNvPr id="140" name=""/>
            <p:cNvGrpSpPr/>
            <p:nvPr/>
          </p:nvGrpSpPr>
          <p:grpSpPr>
            <a:xfrm>
              <a:off x="679320" y="2296800"/>
              <a:ext cx="609480" cy="1676520"/>
              <a:chOff x="679320" y="2296800"/>
              <a:chExt cx="609480" cy="1676520"/>
            </a:xfrm>
          </p:grpSpPr>
          <p:sp>
            <p:nvSpPr>
              <p:cNvPr id="141" name=""/>
              <p:cNvSpPr/>
              <p:nvPr/>
            </p:nvSpPr>
            <p:spPr>
              <a:xfrm rot="16200000">
                <a:off x="450720" y="283032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200000">
                <a:off x="856800" y="3617640"/>
                <a:ext cx="30492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6200000">
                <a:off x="856800" y="2246040"/>
                <a:ext cx="30492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983880" y="229680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00000">
                <a:off x="907920" y="35924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200000">
                <a:off x="907560" y="2525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854280" y="3062160"/>
              <a:ext cx="505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rot="5400000">
            <a:off x="678960" y="239400"/>
            <a:ext cx="1676520" cy="16765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77520" y="237960"/>
            <a:ext cx="609480" cy="1676520"/>
            <a:chOff x="677520" y="237960"/>
            <a:chExt cx="609480" cy="1676520"/>
          </a:xfrm>
        </p:grpSpPr>
        <p:sp>
          <p:nvSpPr>
            <p:cNvPr id="150" name=""/>
            <p:cNvSpPr/>
            <p:nvPr/>
          </p:nvSpPr>
          <p:spPr>
            <a:xfrm rot="5400000">
              <a:off x="296280" y="923760"/>
              <a:ext cx="13716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hu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77520" y="2376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82440" y="542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727280" y="542520"/>
            <a:ext cx="627120" cy="1143360"/>
            <a:chOff x="1727280" y="542520"/>
            <a:chExt cx="627120" cy="1143360"/>
          </a:xfrm>
        </p:grpSpPr>
        <p:sp>
          <p:nvSpPr>
            <p:cNvPr id="154" name=""/>
            <p:cNvSpPr/>
            <p:nvPr/>
          </p:nvSpPr>
          <p:spPr>
            <a:xfrm rot="5400000">
              <a:off x="1478160" y="809640"/>
              <a:ext cx="11430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49840" y="847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2049840" y="13806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744920" y="13809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049840" y="54252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1744920" y="542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2011320" y="733320"/>
              <a:ext cx="763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2011320" y="1342800"/>
              <a:ext cx="763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1597680" y="903240"/>
              <a:ext cx="505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77160" y="4493880"/>
            <a:ext cx="630360" cy="1683720"/>
            <a:chOff x="677160" y="4493880"/>
            <a:chExt cx="630360" cy="1683720"/>
          </a:xfrm>
        </p:grpSpPr>
        <p:sp>
          <p:nvSpPr>
            <p:cNvPr id="164" name=""/>
            <p:cNvSpPr/>
            <p:nvPr/>
          </p:nvSpPr>
          <p:spPr>
            <a:xfrm rot="5358000">
              <a:off x="154080" y="5030640"/>
              <a:ext cx="16761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3880" y="4649400"/>
              <a:ext cx="1728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1001160" y="6020640"/>
              <a:ext cx="30636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98400" y="6020640"/>
              <a:ext cx="30312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983880" y="4493880"/>
              <a:ext cx="3027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677160" y="4501440"/>
              <a:ext cx="30672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358000">
              <a:off x="755640" y="4651560"/>
              <a:ext cx="7596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358000">
              <a:off x="757800" y="4803840"/>
              <a:ext cx="7560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358000">
              <a:off x="759600" y="4956480"/>
              <a:ext cx="7596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358000">
              <a:off x="761400" y="5108760"/>
              <a:ext cx="7596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358000">
              <a:off x="764280" y="5337360"/>
              <a:ext cx="7596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358000">
              <a:off x="766080" y="5489640"/>
              <a:ext cx="7560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358000">
              <a:off x="768240" y="5642280"/>
              <a:ext cx="7596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358000">
              <a:off x="770040" y="5794560"/>
              <a:ext cx="7596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358000">
              <a:off x="948960" y="4839480"/>
              <a:ext cx="7596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358000">
              <a:off x="951840" y="5068080"/>
              <a:ext cx="7596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358000">
              <a:off x="957600" y="5525280"/>
              <a:ext cx="7596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358000">
              <a:off x="903240" y="5253840"/>
              <a:ext cx="54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ve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683360" y="2342520"/>
            <a:ext cx="684000" cy="439920"/>
            <a:chOff x="1683360" y="2342520"/>
            <a:chExt cx="684000" cy="439920"/>
          </a:xfrm>
        </p:grpSpPr>
        <p:sp>
          <p:nvSpPr>
            <p:cNvPr id="183" name=""/>
            <p:cNvSpPr/>
            <p:nvPr/>
          </p:nvSpPr>
          <p:spPr>
            <a:xfrm rot="21557400">
              <a:off x="1685520" y="2346480"/>
              <a:ext cx="679320" cy="37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1557400">
              <a:off x="1685520" y="2475000"/>
              <a:ext cx="61560" cy="12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747080" y="2529720"/>
              <a:ext cx="6174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1557400">
              <a:off x="1850760" y="2532960"/>
              <a:ext cx="50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927800" y="3264480"/>
            <a:ext cx="446760" cy="716040"/>
            <a:chOff x="1927800" y="3264480"/>
            <a:chExt cx="446760" cy="716040"/>
          </a:xfrm>
        </p:grpSpPr>
        <p:sp>
          <p:nvSpPr>
            <p:cNvPr id="188" name=""/>
            <p:cNvSpPr/>
            <p:nvPr/>
          </p:nvSpPr>
          <p:spPr>
            <a:xfrm rot="16110000">
              <a:off x="1774800" y="3431160"/>
              <a:ext cx="706320" cy="38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110000">
              <a:off x="2103840" y="3879720"/>
              <a:ext cx="64080" cy="12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118600" y="3269880"/>
              <a:ext cx="16920" cy="6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110000">
              <a:off x="1991880" y="3458520"/>
              <a:ext cx="50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417040" y="2967120"/>
            <a:ext cx="86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 of th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 Up, 3 Le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94080" y="985680"/>
            <a:ext cx="67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of th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th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1280" y="5243400"/>
            <a:ext cx="87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 of th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 UP,  3 Le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191120" y="456840"/>
            <a:ext cx="3352680" cy="5486400"/>
            <a:chOff x="4191120" y="456840"/>
            <a:chExt cx="3352680" cy="5486400"/>
          </a:xfrm>
        </p:grpSpPr>
        <p:sp>
          <p:nvSpPr>
            <p:cNvPr id="196" name=""/>
            <p:cNvSpPr/>
            <p:nvPr/>
          </p:nvSpPr>
          <p:spPr>
            <a:xfrm>
              <a:off x="5181480" y="1357560"/>
              <a:ext cx="914400" cy="319320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81480" y="1357560"/>
              <a:ext cx="0" cy="458568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91120" y="1357560"/>
              <a:ext cx="335268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81480" y="457200"/>
              <a:ext cx="914400" cy="90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095880" y="456840"/>
              <a:ext cx="838440" cy="90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191120" y="5715000"/>
            <a:ext cx="3657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191120" y="5715000"/>
            <a:ext cx="990360" cy="990720"/>
            <a:chOff x="4191120" y="5715000"/>
            <a:chExt cx="990360" cy="990720"/>
          </a:xfrm>
        </p:grpSpPr>
        <p:sp>
          <p:nvSpPr>
            <p:cNvPr id="203" name=""/>
            <p:cNvSpPr/>
            <p:nvPr/>
          </p:nvSpPr>
          <p:spPr>
            <a:xfrm>
              <a:off x="4191120" y="5715000"/>
              <a:ext cx="99036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9720" y="5867280"/>
              <a:ext cx="609480" cy="609840"/>
            </a:xfrm>
            <a:prstGeom prst="upArrow">
              <a:avLst>
                <a:gd name="adj1" fmla="val 50000"/>
                <a:gd name="adj2" fmla="val 250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81480" y="5715000"/>
            <a:ext cx="990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8836400">
            <a:off x="5409720" y="5866920"/>
            <a:ext cx="60984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5715000"/>
            <a:ext cx="9903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3614000">
            <a:off x="7391160" y="5866920"/>
            <a:ext cx="60984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172200" y="5715000"/>
            <a:ext cx="990720" cy="990360"/>
            <a:chOff x="6172200" y="5715000"/>
            <a:chExt cx="990720" cy="990360"/>
          </a:xfrm>
        </p:grpSpPr>
        <p:sp>
          <p:nvSpPr>
            <p:cNvPr id="210" name=""/>
            <p:cNvSpPr/>
            <p:nvPr/>
          </p:nvSpPr>
          <p:spPr>
            <a:xfrm flipV="1" rot="5400000">
              <a:off x="6172200" y="5714280"/>
              <a:ext cx="99036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5400000">
              <a:off x="6324480" y="5942880"/>
              <a:ext cx="609480" cy="609840"/>
            </a:xfrm>
            <a:prstGeom prst="upArrow">
              <a:avLst>
                <a:gd name="adj1" fmla="val 50000"/>
                <a:gd name="adj2" fmla="val 250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401000" y="1432080"/>
            <a:ext cx="223956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 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 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Red    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 Yel                 &lt;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 Red                  &lt;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n                   Grn                      &lt;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  Yel                  &lt;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419112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3276720"/>
            <a:ext cx="144792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2743200"/>
            <a:ext cx="76212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3962520"/>
            <a:ext cx="15242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78200" y="289080"/>
            <a:ext cx="1593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een on top of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st of the tim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low below red half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 seems to be the base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st displ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685440" y="2514600"/>
            <a:ext cx="1677960" cy="1677960"/>
            <a:chOff x="685440" y="2514600"/>
            <a:chExt cx="1677960" cy="1677960"/>
          </a:xfrm>
        </p:grpSpPr>
        <p:sp>
          <p:nvSpPr>
            <p:cNvPr id="219" name=""/>
            <p:cNvSpPr/>
            <p:nvPr/>
          </p:nvSpPr>
          <p:spPr>
            <a:xfrm rot="5400000">
              <a:off x="686880" y="2516040"/>
              <a:ext cx="1676520" cy="16765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685440" y="2514600"/>
              <a:ext cx="609480" cy="1676520"/>
              <a:chOff x="685440" y="2514600"/>
              <a:chExt cx="609480" cy="1676520"/>
            </a:xfrm>
          </p:grpSpPr>
          <p:sp>
            <p:nvSpPr>
              <p:cNvPr id="221" name=""/>
              <p:cNvSpPr/>
              <p:nvPr/>
            </p:nvSpPr>
            <p:spPr>
              <a:xfrm rot="5400000">
                <a:off x="304200" y="3200400"/>
                <a:ext cx="13716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hur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400000">
                <a:off x="685440" y="25146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90360" y="281952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735200" y="2819160"/>
              <a:ext cx="627120" cy="1143360"/>
              <a:chOff x="1735200" y="2819160"/>
              <a:chExt cx="627120" cy="1143360"/>
            </a:xfrm>
          </p:grpSpPr>
          <p:sp>
            <p:nvSpPr>
              <p:cNvPr id="225" name=""/>
              <p:cNvSpPr/>
              <p:nvPr/>
            </p:nvSpPr>
            <p:spPr>
              <a:xfrm rot="5400000">
                <a:off x="1486080" y="3086280"/>
                <a:ext cx="11430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57760" y="312444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2057760" y="3657240"/>
                <a:ext cx="3045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752840" y="3657600"/>
                <a:ext cx="3049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2057760" y="2819160"/>
                <a:ext cx="3045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1752840" y="2819160"/>
                <a:ext cx="3049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5400000">
                <a:off x="2019240" y="300996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2019240" y="361944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5400000">
                <a:off x="1605600" y="3179880"/>
                <a:ext cx="50544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43640" y="149760"/>
            <a:ext cx="1702440" cy="1684440"/>
            <a:chOff x="143640" y="149760"/>
            <a:chExt cx="1702440" cy="1684440"/>
          </a:xfrm>
        </p:grpSpPr>
        <p:sp>
          <p:nvSpPr>
            <p:cNvPr id="235" name=""/>
            <p:cNvSpPr/>
            <p:nvPr/>
          </p:nvSpPr>
          <p:spPr>
            <a:xfrm rot="16200000">
              <a:off x="152280" y="151920"/>
              <a:ext cx="1676520" cy="1676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218960" y="151920"/>
              <a:ext cx="627120" cy="1676880"/>
              <a:chOff x="1218960" y="151920"/>
              <a:chExt cx="627120" cy="167688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1218960" y="151920"/>
                <a:ext cx="609480" cy="1676880"/>
                <a:chOff x="1218960" y="151920"/>
                <a:chExt cx="609480" cy="1676880"/>
              </a:xfrm>
            </p:grpSpPr>
            <p:sp>
              <p:nvSpPr>
                <p:cNvPr id="238" name=""/>
                <p:cNvSpPr/>
                <p:nvPr/>
              </p:nvSpPr>
              <p:spPr>
                <a:xfrm rot="16200000">
                  <a:off x="685440" y="685440"/>
                  <a:ext cx="167652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6200000">
                  <a:off x="533160" y="837720"/>
                  <a:ext cx="1676520" cy="30492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523880" y="1523880"/>
                  <a:ext cx="30456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1523880" y="151920"/>
                  <a:ext cx="30456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6200000">
                  <a:off x="1447560" y="9140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 rot="16200000">
                <a:off x="1309320" y="909000"/>
                <a:ext cx="82692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1218960" y="15192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43640" y="149760"/>
              <a:ext cx="630360" cy="1684440"/>
              <a:chOff x="143640" y="149760"/>
              <a:chExt cx="630360" cy="1684440"/>
            </a:xfrm>
          </p:grpSpPr>
          <p:sp>
            <p:nvSpPr>
              <p:cNvPr id="246" name=""/>
              <p:cNvSpPr/>
              <p:nvPr/>
            </p:nvSpPr>
            <p:spPr>
              <a:xfrm rot="5358000">
                <a:off x="-379440" y="687240"/>
                <a:ext cx="167652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0360" y="306000"/>
                <a:ext cx="1728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467640" y="1677600"/>
                <a:ext cx="30636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164880" y="1677600"/>
                <a:ext cx="30312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50360" y="149760"/>
                <a:ext cx="30276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143640" y="157320"/>
                <a:ext cx="306720" cy="14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358000">
                <a:off x="221760" y="30816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358000">
                <a:off x="224280" y="460800"/>
                <a:ext cx="7596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5358000">
                <a:off x="225720" y="61308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5358000">
                <a:off x="227520" y="76536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58000">
                <a:off x="230400" y="99396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58000">
                <a:off x="232560" y="1146600"/>
                <a:ext cx="7596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358000">
                <a:off x="234360" y="129888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358000">
                <a:off x="236160" y="145116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5358000">
                <a:off x="415080" y="49644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358000">
                <a:off x="417960" y="72504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5358000">
                <a:off x="423720" y="118224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358000">
                <a:off x="369720" y="910800"/>
                <a:ext cx="54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-4320" y="4942440"/>
            <a:ext cx="1699560" cy="1704960"/>
            <a:chOff x="-4320" y="4942440"/>
            <a:chExt cx="1699560" cy="1704960"/>
          </a:xfrm>
        </p:grpSpPr>
        <p:sp>
          <p:nvSpPr>
            <p:cNvPr id="265" name=""/>
            <p:cNvSpPr/>
            <p:nvPr/>
          </p:nvSpPr>
          <p:spPr>
            <a:xfrm rot="5358000">
              <a:off x="6120" y="4952520"/>
              <a:ext cx="1676520" cy="1676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0" y="4963680"/>
              <a:ext cx="609480" cy="1676520"/>
              <a:chOff x="0" y="4963680"/>
              <a:chExt cx="609480" cy="167652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0" y="4963680"/>
                <a:ext cx="609480" cy="1676520"/>
                <a:chOff x="0" y="4963680"/>
                <a:chExt cx="609480" cy="1676520"/>
              </a:xfrm>
            </p:grpSpPr>
            <p:sp>
              <p:nvSpPr>
                <p:cNvPr id="268" name=""/>
                <p:cNvSpPr/>
                <p:nvPr/>
              </p:nvSpPr>
              <p:spPr>
                <a:xfrm rot="16200000">
                  <a:off x="-228240" y="5497200"/>
                  <a:ext cx="106668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16200000">
                  <a:off x="177480" y="6284520"/>
                  <a:ext cx="30492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16200000">
                  <a:off x="177480" y="4912920"/>
                  <a:ext cx="30492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304560" y="4963680"/>
                  <a:ext cx="0" cy="167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16200000">
                  <a:off x="228600" y="62593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16200000">
                  <a:off x="228240" y="519228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 rot="16200000">
                <a:off x="174960" y="5729040"/>
                <a:ext cx="50544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004040" y="5009400"/>
              <a:ext cx="684000" cy="439920"/>
              <a:chOff x="1004040" y="5009400"/>
              <a:chExt cx="684000" cy="439920"/>
            </a:xfrm>
          </p:grpSpPr>
          <p:sp>
            <p:nvSpPr>
              <p:cNvPr id="276" name=""/>
              <p:cNvSpPr/>
              <p:nvPr/>
            </p:nvSpPr>
            <p:spPr>
              <a:xfrm rot="21557400">
                <a:off x="1006200" y="5013360"/>
                <a:ext cx="679320" cy="37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1557400">
                <a:off x="1006200" y="5141880"/>
                <a:ext cx="61560" cy="12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067760" y="5196600"/>
                <a:ext cx="61740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1557400">
                <a:off x="1171440" y="5199840"/>
                <a:ext cx="50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248480" y="5931360"/>
              <a:ext cx="446760" cy="716040"/>
              <a:chOff x="1248480" y="5931360"/>
              <a:chExt cx="446760" cy="716040"/>
            </a:xfrm>
          </p:grpSpPr>
          <p:sp>
            <p:nvSpPr>
              <p:cNvPr id="281" name=""/>
              <p:cNvSpPr/>
              <p:nvPr/>
            </p:nvSpPr>
            <p:spPr>
              <a:xfrm rot="16110000">
                <a:off x="1095480" y="6098040"/>
                <a:ext cx="706320" cy="382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6110000">
                <a:off x="1424520" y="6546600"/>
                <a:ext cx="64080" cy="12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1439280" y="5936760"/>
                <a:ext cx="16920" cy="64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110000">
                <a:off x="1312560" y="6125400"/>
                <a:ext cx="50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2090160" y="39240"/>
            <a:ext cx="2373120" cy="2370600"/>
            <a:chOff x="2090160" y="39240"/>
            <a:chExt cx="2373120" cy="2370600"/>
          </a:xfrm>
        </p:grpSpPr>
        <p:sp>
          <p:nvSpPr>
            <p:cNvPr id="286" name=""/>
            <p:cNvSpPr/>
            <p:nvPr/>
          </p:nvSpPr>
          <p:spPr>
            <a:xfrm rot="13561800">
              <a:off x="2439720" y="386280"/>
              <a:ext cx="1676520" cy="1676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860200" y="39240"/>
              <a:ext cx="1603080" cy="1629720"/>
              <a:chOff x="2860200" y="39240"/>
              <a:chExt cx="1603080" cy="162972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2860200" y="39240"/>
                <a:ext cx="1603080" cy="1629720"/>
                <a:chOff x="2860200" y="39240"/>
                <a:chExt cx="1603080" cy="1629720"/>
              </a:xfrm>
            </p:grpSpPr>
            <p:sp>
              <p:nvSpPr>
                <p:cNvPr id="289" name=""/>
                <p:cNvSpPr/>
                <p:nvPr/>
              </p:nvSpPr>
              <p:spPr>
                <a:xfrm rot="13561800">
                  <a:off x="2823120" y="549360"/>
                  <a:ext cx="167652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13561800">
                  <a:off x="2713680" y="807120"/>
                  <a:ext cx="1676520" cy="30492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032360" y="1238040"/>
                  <a:ext cx="43092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3291480" y="39240"/>
                  <a:ext cx="7560" cy="43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13561800">
                  <a:off x="3585240" y="7779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 rot="13561800">
                <a:off x="3420720" y="622800"/>
                <a:ext cx="82692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2860200" y="462600"/>
                <a:ext cx="1164240" cy="12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2090160" y="784440"/>
              <a:ext cx="1612800" cy="1621080"/>
              <a:chOff x="2090160" y="784440"/>
              <a:chExt cx="1612800" cy="1621080"/>
            </a:xfrm>
          </p:grpSpPr>
          <p:sp>
            <p:nvSpPr>
              <p:cNvPr id="297" name=""/>
              <p:cNvSpPr/>
              <p:nvPr/>
            </p:nvSpPr>
            <p:spPr>
              <a:xfrm rot="2718600">
                <a:off x="2058120" y="1290240"/>
                <a:ext cx="167652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414520" y="1107000"/>
                <a:ext cx="964440" cy="9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3378960" y="1976400"/>
                <a:ext cx="32400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3269880" y="2081880"/>
                <a:ext cx="109440" cy="32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2414160" y="784440"/>
                <a:ext cx="109440" cy="32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2090160" y="1107000"/>
                <a:ext cx="3240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718600">
                <a:off x="2267280" y="123048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718600">
                <a:off x="2374560" y="1338120"/>
                <a:ext cx="7596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718600">
                <a:off x="2481840" y="144684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718600">
                <a:off x="2588760" y="155520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2718600">
                <a:off x="2749680" y="171792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2718600">
                <a:off x="2856960" y="1825920"/>
                <a:ext cx="7596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2718600">
                <a:off x="2964240" y="193464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2718600">
                <a:off x="3071160" y="204264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718600">
                <a:off x="2563560" y="122040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718600">
                <a:off x="2724120" y="138312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718600">
                <a:off x="3045960" y="170784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718600">
                <a:off x="2786040" y="1375560"/>
                <a:ext cx="54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4721760" y="226800"/>
            <a:ext cx="1684080" cy="1702440"/>
            <a:chOff x="4721760" y="226800"/>
            <a:chExt cx="1684080" cy="1702440"/>
          </a:xfrm>
        </p:grpSpPr>
        <p:sp>
          <p:nvSpPr>
            <p:cNvPr id="316" name=""/>
            <p:cNvSpPr/>
            <p:nvPr/>
          </p:nvSpPr>
          <p:spPr>
            <a:xfrm rot="10800000">
              <a:off x="4723920" y="244080"/>
              <a:ext cx="1676520" cy="1676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723920" y="226800"/>
              <a:ext cx="1676880" cy="627120"/>
              <a:chOff x="4723920" y="226800"/>
              <a:chExt cx="1676880" cy="62712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4723920" y="244440"/>
                <a:ext cx="1676880" cy="609480"/>
                <a:chOff x="4723920" y="244440"/>
                <a:chExt cx="1676880" cy="609480"/>
              </a:xfrm>
            </p:grpSpPr>
            <p:sp>
              <p:nvSpPr>
                <p:cNvPr id="319" name=""/>
                <p:cNvSpPr/>
                <p:nvPr/>
              </p:nvSpPr>
              <p:spPr>
                <a:xfrm rot="10800000">
                  <a:off x="4723920" y="244080"/>
                  <a:ext cx="167652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10800000">
                  <a:off x="4723920" y="548640"/>
                  <a:ext cx="1676520" cy="30492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6095880" y="244440"/>
                  <a:ext cx="3049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4723920" y="244440"/>
                  <a:ext cx="3049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10800000">
                  <a:off x="5486040" y="4730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 rot="10800000">
                <a:off x="5190840" y="226440"/>
                <a:ext cx="82692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4723920" y="85392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721760" y="1298880"/>
              <a:ext cx="1684080" cy="630360"/>
              <a:chOff x="4721760" y="1298880"/>
              <a:chExt cx="1684080" cy="630360"/>
            </a:xfrm>
          </p:grpSpPr>
          <p:sp>
            <p:nvSpPr>
              <p:cNvPr id="327" name=""/>
              <p:cNvSpPr/>
              <p:nvPr/>
            </p:nvSpPr>
            <p:spPr>
              <a:xfrm rot="21558000">
                <a:off x="4725720" y="1309320"/>
                <a:ext cx="167652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878000" y="1605240"/>
                <a:ext cx="13716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249600" y="1298880"/>
                <a:ext cx="14868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6249600" y="1604880"/>
                <a:ext cx="15624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4721760" y="1319760"/>
                <a:ext cx="155880" cy="30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729320" y="1622520"/>
                <a:ext cx="148320" cy="30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58000">
                <a:off x="4880160" y="177444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58000">
                <a:off x="5032800" y="1772280"/>
                <a:ext cx="7596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558000">
                <a:off x="5185080" y="177048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558000">
                <a:off x="5337360" y="176868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558000">
                <a:off x="5565960" y="176580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558000">
                <a:off x="5718600" y="1764000"/>
                <a:ext cx="7596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558000">
                <a:off x="5870880" y="176184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558000">
                <a:off x="6023160" y="176004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1558000">
                <a:off x="5106240" y="154296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1558000">
                <a:off x="5334840" y="154008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558000">
                <a:off x="5792040" y="153432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1558000">
                <a:off x="5335200" y="1308600"/>
                <a:ext cx="54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6597360" y="-22320"/>
            <a:ext cx="2359800" cy="2363760"/>
            <a:chOff x="6597360" y="-22320"/>
            <a:chExt cx="2359800" cy="2363760"/>
          </a:xfrm>
        </p:grpSpPr>
        <p:sp>
          <p:nvSpPr>
            <p:cNvPr id="346" name=""/>
            <p:cNvSpPr/>
            <p:nvPr/>
          </p:nvSpPr>
          <p:spPr>
            <a:xfrm rot="8432400">
              <a:off x="6939000" y="319320"/>
              <a:ext cx="1676520" cy="1676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597720" y="-22320"/>
              <a:ext cx="1681920" cy="1536480"/>
              <a:chOff x="6597720" y="-22320"/>
              <a:chExt cx="1681920" cy="153648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6597720" y="-22320"/>
                <a:ext cx="1681920" cy="1536480"/>
                <a:chOff x="6597720" y="-22320"/>
                <a:chExt cx="1681920" cy="1536480"/>
              </a:xfrm>
            </p:grpSpPr>
            <p:sp>
              <p:nvSpPr>
                <p:cNvPr id="349" name=""/>
                <p:cNvSpPr/>
                <p:nvPr/>
              </p:nvSpPr>
              <p:spPr>
                <a:xfrm rot="8432400">
                  <a:off x="6600240" y="441000"/>
                  <a:ext cx="167652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8432400">
                  <a:off x="6697080" y="711000"/>
                  <a:ext cx="1676520" cy="30492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192" y="192"/>
                      </a:lnTo>
                      <a:lnTo>
                        <a:pt x="864" y="192"/>
                      </a:lnTo>
                      <a:lnTo>
                        <a:pt x="1056" y="0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7850520" y="-22320"/>
                  <a:ext cx="42120" cy="42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flipV="1">
                  <a:off x="6597720" y="1043640"/>
                  <a:ext cx="4291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8432400">
                  <a:off x="7362360" y="6696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 rot="8432400">
                <a:off x="6931080" y="442080"/>
                <a:ext cx="82692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ourt 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6985080" y="448560"/>
                <a:ext cx="1294560" cy="106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279920" y="794160"/>
              <a:ext cx="1674720" cy="1547280"/>
              <a:chOff x="7279920" y="794160"/>
              <a:chExt cx="1674720" cy="1547280"/>
            </a:xfrm>
          </p:grpSpPr>
          <p:sp>
            <p:nvSpPr>
              <p:cNvPr id="357" name=""/>
              <p:cNvSpPr/>
              <p:nvPr/>
            </p:nvSpPr>
            <p:spPr>
              <a:xfrm rot="19190400">
                <a:off x="7278840" y="1262880"/>
                <a:ext cx="167652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7593120" y="1125360"/>
                <a:ext cx="1047960" cy="88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561160" y="794160"/>
                <a:ext cx="79920" cy="33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8641080" y="1125000"/>
                <a:ext cx="31320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7279920" y="1875600"/>
                <a:ext cx="31284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92760" y="2010240"/>
                <a:ext cx="80280" cy="33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190400">
                <a:off x="7706880" y="209304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190400">
                <a:off x="7823520" y="1994760"/>
                <a:ext cx="7596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190400">
                <a:off x="7939800" y="189612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90400">
                <a:off x="8056440" y="179820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90400">
                <a:off x="8231040" y="165060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190400">
                <a:off x="8347680" y="1552320"/>
                <a:ext cx="7596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190400">
                <a:off x="8463960" y="145368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9190400">
                <a:off x="8580240" y="1355400"/>
                <a:ext cx="7632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9190400">
                <a:off x="7758720" y="176184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9190400">
                <a:off x="7933320" y="161424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9190400">
                <a:off x="8282520" y="131940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9190400">
                <a:off x="7763400" y="1277280"/>
                <a:ext cx="54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aver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2625480" y="2245680"/>
            <a:ext cx="2370240" cy="2368440"/>
            <a:chOff x="2625480" y="2245680"/>
            <a:chExt cx="2370240" cy="2368440"/>
          </a:xfrm>
        </p:grpSpPr>
        <p:sp>
          <p:nvSpPr>
            <p:cNvPr id="376" name=""/>
            <p:cNvSpPr/>
            <p:nvPr/>
          </p:nvSpPr>
          <p:spPr>
            <a:xfrm rot="2539800">
              <a:off x="2972880" y="2591280"/>
              <a:ext cx="1676520" cy="16765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2625480" y="3240000"/>
              <a:ext cx="1649880" cy="1374120"/>
              <a:chOff x="2625480" y="3240000"/>
              <a:chExt cx="1649880" cy="1374120"/>
            </a:xfrm>
          </p:grpSpPr>
          <p:sp>
            <p:nvSpPr>
              <p:cNvPr id="378" name=""/>
              <p:cNvSpPr/>
              <p:nvPr/>
            </p:nvSpPr>
            <p:spPr>
              <a:xfrm rot="2539800">
                <a:off x="2877120" y="3622320"/>
                <a:ext cx="13716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hur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539800">
                <a:off x="2688120" y="3322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56040" y="3465000"/>
                <a:ext cx="101412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569400" y="2450520"/>
              <a:ext cx="1255680" cy="1220760"/>
              <a:chOff x="3569400" y="2450520"/>
              <a:chExt cx="1255680" cy="1220760"/>
            </a:xfrm>
          </p:grpSpPr>
          <p:sp>
            <p:nvSpPr>
              <p:cNvPr id="382" name=""/>
              <p:cNvSpPr/>
              <p:nvPr/>
            </p:nvSpPr>
            <p:spPr>
              <a:xfrm rot="2539800">
                <a:off x="3625920" y="2756160"/>
                <a:ext cx="11430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000320" y="2881440"/>
                <a:ext cx="394200" cy="3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4394160" y="3220200"/>
                <a:ext cx="430560" cy="1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394520" y="3240360"/>
                <a:ext cx="20160" cy="43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3979800" y="2450520"/>
                <a:ext cx="201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3569400" y="2881080"/>
                <a:ext cx="43056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539800">
                <a:off x="3933360" y="277956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539800">
                <a:off x="4384080" y="318996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539800">
                <a:off x="3745080" y="3025800"/>
                <a:ext cx="50544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5026320" y="2435040"/>
            <a:ext cx="1684080" cy="1684440"/>
            <a:chOff x="5026320" y="2435040"/>
            <a:chExt cx="1684080" cy="1684440"/>
          </a:xfrm>
        </p:grpSpPr>
        <p:sp>
          <p:nvSpPr>
            <p:cNvPr id="392" name=""/>
            <p:cNvSpPr/>
            <p:nvPr/>
          </p:nvSpPr>
          <p:spPr>
            <a:xfrm rot="12600">
              <a:off x="5030640" y="2437920"/>
              <a:ext cx="1676520" cy="16765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5026320" y="3504960"/>
              <a:ext cx="1678680" cy="614520"/>
              <a:chOff x="5026320" y="3504960"/>
              <a:chExt cx="1678680" cy="614520"/>
            </a:xfrm>
          </p:grpSpPr>
          <p:sp>
            <p:nvSpPr>
              <p:cNvPr id="394" name=""/>
              <p:cNvSpPr/>
              <p:nvPr/>
            </p:nvSpPr>
            <p:spPr>
              <a:xfrm rot="12600">
                <a:off x="5331960" y="3507120"/>
                <a:ext cx="13716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hur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2600">
                <a:off x="5026680" y="3808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32320" y="3809520"/>
                <a:ext cx="13716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5334480" y="2437560"/>
              <a:ext cx="1145880" cy="629640"/>
              <a:chOff x="5334480" y="2437560"/>
              <a:chExt cx="1145880" cy="629640"/>
            </a:xfrm>
          </p:grpSpPr>
          <p:sp>
            <p:nvSpPr>
              <p:cNvPr id="398" name=""/>
              <p:cNvSpPr/>
              <p:nvPr/>
            </p:nvSpPr>
            <p:spPr>
              <a:xfrm rot="12600">
                <a:off x="5335920" y="2439360"/>
                <a:ext cx="11430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40840" y="2743200"/>
                <a:ext cx="53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6173640" y="2441520"/>
                <a:ext cx="30636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74000" y="2745000"/>
                <a:ext cx="30384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5337000" y="2437560"/>
                <a:ext cx="303480" cy="30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5334480" y="2743200"/>
                <a:ext cx="306000" cy="3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2600">
                <a:off x="5564520" y="266688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2600">
                <a:off x="6174000" y="266904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2600">
                <a:off x="5565960" y="2819880"/>
                <a:ext cx="50544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6817680" y="2320200"/>
            <a:ext cx="2368800" cy="2370600"/>
            <a:chOff x="6817680" y="2320200"/>
            <a:chExt cx="2368800" cy="2370600"/>
          </a:xfrm>
        </p:grpSpPr>
        <p:sp>
          <p:nvSpPr>
            <p:cNvPr id="408" name=""/>
            <p:cNvSpPr/>
            <p:nvPr/>
          </p:nvSpPr>
          <p:spPr>
            <a:xfrm rot="19044000">
              <a:off x="7163640" y="2666160"/>
              <a:ext cx="1676520" cy="16765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7745760" y="3107520"/>
              <a:ext cx="1440360" cy="1583280"/>
              <a:chOff x="7745760" y="3107520"/>
              <a:chExt cx="1440360" cy="1583280"/>
            </a:xfrm>
          </p:grpSpPr>
          <p:sp>
            <p:nvSpPr>
              <p:cNvPr id="410" name=""/>
              <p:cNvSpPr/>
              <p:nvPr/>
            </p:nvSpPr>
            <p:spPr>
              <a:xfrm rot="19044000">
                <a:off x="7789320" y="3491280"/>
                <a:ext cx="13716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hur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9044000">
                <a:off x="7808400" y="4322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7970400" y="3331800"/>
                <a:ext cx="1009440" cy="9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041600" y="2476800"/>
              <a:ext cx="1253880" cy="1222560"/>
              <a:chOff x="7041600" y="2476800"/>
              <a:chExt cx="1253880" cy="1222560"/>
            </a:xfrm>
          </p:grpSpPr>
          <p:sp>
            <p:nvSpPr>
              <p:cNvPr id="414" name=""/>
              <p:cNvSpPr/>
              <p:nvPr/>
            </p:nvSpPr>
            <p:spPr>
              <a:xfrm rot="19044000">
                <a:off x="7097040" y="2783160"/>
                <a:ext cx="11430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7472160" y="2907360"/>
                <a:ext cx="392760" cy="36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7864560" y="2477160"/>
                <a:ext cx="183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864920" y="2907360"/>
                <a:ext cx="430560" cy="1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>
                <a:off x="7041600" y="3250800"/>
                <a:ext cx="43056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453800" y="3268440"/>
                <a:ext cx="18360" cy="43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044000">
                <a:off x="7406280" y="321804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044000">
                <a:off x="7854840" y="2805480"/>
                <a:ext cx="763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044000">
                <a:off x="7485840" y="3170880"/>
                <a:ext cx="50544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789200" y="4455000"/>
            <a:ext cx="2369160" cy="2369160"/>
            <a:chOff x="1789200" y="4455000"/>
            <a:chExt cx="2369160" cy="2369160"/>
          </a:xfrm>
        </p:grpSpPr>
        <p:sp>
          <p:nvSpPr>
            <p:cNvPr id="424" name=""/>
            <p:cNvSpPr/>
            <p:nvPr/>
          </p:nvSpPr>
          <p:spPr>
            <a:xfrm rot="2565600">
              <a:off x="2135160" y="4801320"/>
              <a:ext cx="1676520" cy="1676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1879560" y="5296320"/>
              <a:ext cx="1496520" cy="1448280"/>
              <a:chOff x="1879560" y="5296320"/>
              <a:chExt cx="1496520" cy="144828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1879560" y="5296320"/>
                <a:ext cx="1496520" cy="1448280"/>
                <a:chOff x="1879560" y="5296320"/>
                <a:chExt cx="1496520" cy="1448280"/>
              </a:xfrm>
            </p:grpSpPr>
            <p:sp>
              <p:nvSpPr>
                <p:cNvPr id="427" name=""/>
                <p:cNvSpPr/>
                <p:nvPr/>
              </p:nvSpPr>
              <p:spPr>
                <a:xfrm rot="13408200">
                  <a:off x="2077200" y="5733720"/>
                  <a:ext cx="106668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13408200">
                  <a:off x="2972880" y="6288840"/>
                  <a:ext cx="30492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13408200">
                  <a:off x="1977480" y="5345280"/>
                  <a:ext cx="30492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>
                  <a:off x="2002320" y="5462280"/>
                  <a:ext cx="1216440" cy="115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3408200">
                  <a:off x="2921400" y="63295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3408200">
                  <a:off x="2147040" y="559548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 rot="13408200">
                <a:off x="2478600" y="5860800"/>
                <a:ext cx="50544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522520" y="4493160"/>
              <a:ext cx="772560" cy="753480"/>
              <a:chOff x="2522520" y="4493160"/>
              <a:chExt cx="772560" cy="753480"/>
            </a:xfrm>
          </p:grpSpPr>
          <p:sp>
            <p:nvSpPr>
              <p:cNvPr id="435" name=""/>
              <p:cNvSpPr/>
              <p:nvPr/>
            </p:nvSpPr>
            <p:spPr>
              <a:xfrm rot="18765600">
                <a:off x="2550960" y="4681800"/>
                <a:ext cx="679320" cy="37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8765600">
                <a:off x="2650320" y="5033880"/>
                <a:ext cx="61560" cy="12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2701800" y="4620600"/>
                <a:ext cx="419400" cy="45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765600">
                <a:off x="2780280" y="4773600"/>
                <a:ext cx="50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3360960" y="5165640"/>
              <a:ext cx="780840" cy="756720"/>
              <a:chOff x="3360960" y="5165640"/>
              <a:chExt cx="780840" cy="756720"/>
            </a:xfrm>
          </p:grpSpPr>
          <p:sp>
            <p:nvSpPr>
              <p:cNvPr id="440" name=""/>
              <p:cNvSpPr/>
              <p:nvPr/>
            </p:nvSpPr>
            <p:spPr>
              <a:xfrm rot="13318200">
                <a:off x="3398040" y="5352840"/>
                <a:ext cx="706320" cy="382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3318200">
                <a:off x="3957840" y="5694840"/>
                <a:ext cx="64080" cy="12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3489120" y="5308200"/>
                <a:ext cx="477360" cy="42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3318200">
                <a:off x="3549240" y="5307840"/>
                <a:ext cx="50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4409280" y="4869360"/>
            <a:ext cx="1704960" cy="1698840"/>
            <a:chOff x="4409280" y="4869360"/>
            <a:chExt cx="1704960" cy="1698840"/>
          </a:xfrm>
        </p:grpSpPr>
        <p:sp>
          <p:nvSpPr>
            <p:cNvPr id="445" name=""/>
            <p:cNvSpPr/>
            <p:nvPr/>
          </p:nvSpPr>
          <p:spPr>
            <a:xfrm rot="21558000">
              <a:off x="4419360" y="4881600"/>
              <a:ext cx="1676520" cy="1676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430520" y="5954400"/>
              <a:ext cx="1676520" cy="609480"/>
              <a:chOff x="4430520" y="5954400"/>
              <a:chExt cx="1676520" cy="60948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4430520" y="5954400"/>
                <a:ext cx="1676520" cy="609480"/>
                <a:chOff x="4430520" y="5954400"/>
                <a:chExt cx="1676520" cy="609480"/>
              </a:xfrm>
            </p:grpSpPr>
            <p:sp>
              <p:nvSpPr>
                <p:cNvPr id="448" name=""/>
                <p:cNvSpPr/>
                <p:nvPr/>
              </p:nvSpPr>
              <p:spPr>
                <a:xfrm rot="10800000">
                  <a:off x="4735440" y="5954400"/>
                  <a:ext cx="106668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0800000">
                  <a:off x="5802120" y="6030720"/>
                  <a:ext cx="30492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0800000">
                  <a:off x="4430520" y="6030720"/>
                  <a:ext cx="30492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4430520" y="6259320"/>
                  <a:ext cx="167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0800000">
                  <a:off x="5726160" y="6183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10800000">
                  <a:off x="4659120" y="618300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 rot="10800000">
                <a:off x="5066280" y="6013080"/>
                <a:ext cx="50544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476240" y="4876560"/>
              <a:ext cx="439920" cy="683640"/>
              <a:chOff x="4476240" y="4876560"/>
              <a:chExt cx="439920" cy="683640"/>
            </a:xfrm>
          </p:grpSpPr>
          <p:sp>
            <p:nvSpPr>
              <p:cNvPr id="456" name=""/>
              <p:cNvSpPr/>
              <p:nvPr/>
            </p:nvSpPr>
            <p:spPr>
              <a:xfrm rot="16157400">
                <a:off x="4328280" y="5030640"/>
                <a:ext cx="678960" cy="37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6157400">
                <a:off x="4640760" y="5464440"/>
                <a:ext cx="61560" cy="12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flipV="1">
                <a:off x="4663440" y="4879440"/>
                <a:ext cx="7920" cy="61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6157400">
                <a:off x="4537080" y="5016600"/>
                <a:ext cx="50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5398200" y="4869360"/>
              <a:ext cx="716040" cy="446400"/>
              <a:chOff x="5398200" y="4869360"/>
              <a:chExt cx="716040" cy="446400"/>
            </a:xfrm>
          </p:grpSpPr>
          <p:sp>
            <p:nvSpPr>
              <p:cNvPr id="461" name=""/>
              <p:cNvSpPr/>
              <p:nvPr/>
            </p:nvSpPr>
            <p:spPr>
              <a:xfrm rot="10710000">
                <a:off x="5402880" y="4924440"/>
                <a:ext cx="706320" cy="38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0710000">
                <a:off x="6045120" y="5043600"/>
                <a:ext cx="64080" cy="12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5403600" y="5108400"/>
                <a:ext cx="64152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0710000">
                <a:off x="5462640" y="4875840"/>
                <a:ext cx="50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6133680" y="4467240"/>
            <a:ext cx="2364480" cy="2364840"/>
            <a:chOff x="6133680" y="4467240"/>
            <a:chExt cx="2364480" cy="2364840"/>
          </a:xfrm>
        </p:grpSpPr>
        <p:sp>
          <p:nvSpPr>
            <p:cNvPr id="466" name=""/>
            <p:cNvSpPr/>
            <p:nvPr/>
          </p:nvSpPr>
          <p:spPr>
            <a:xfrm rot="18652200">
              <a:off x="6477480" y="4811400"/>
              <a:ext cx="1676520" cy="1676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6999480" y="5220720"/>
              <a:ext cx="1416600" cy="1523880"/>
              <a:chOff x="6999480" y="5220720"/>
              <a:chExt cx="1416600" cy="152388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6999480" y="5220720"/>
                <a:ext cx="1416600" cy="1523880"/>
                <a:chOff x="6999480" y="5220720"/>
                <a:chExt cx="1416600" cy="1523880"/>
              </a:xfrm>
            </p:grpSpPr>
            <p:sp>
              <p:nvSpPr>
                <p:cNvPr id="469" name=""/>
                <p:cNvSpPr/>
                <p:nvPr/>
              </p:nvSpPr>
              <p:spPr>
                <a:xfrm rot="7894200">
                  <a:off x="7193160" y="5694480"/>
                  <a:ext cx="106668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7894200">
                  <a:off x="8010360" y="5266080"/>
                  <a:ext cx="30492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7894200">
                  <a:off x="7100280" y="6292080"/>
                  <a:ext cx="304920" cy="40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7170480" y="5372280"/>
                  <a:ext cx="1112400" cy="125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7894200">
                  <a:off x="8004240" y="5523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7894200">
                  <a:off x="7296480" y="632196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rot="7894200">
                <a:off x="7415280" y="5756760"/>
                <a:ext cx="50544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6170040" y="5356440"/>
              <a:ext cx="758880" cy="765720"/>
              <a:chOff x="6170040" y="5356440"/>
              <a:chExt cx="758880" cy="765720"/>
            </a:xfrm>
          </p:grpSpPr>
          <p:sp>
            <p:nvSpPr>
              <p:cNvPr id="477" name=""/>
              <p:cNvSpPr/>
              <p:nvPr/>
            </p:nvSpPr>
            <p:spPr>
              <a:xfrm rot="13251600">
                <a:off x="6209640" y="5570280"/>
                <a:ext cx="678960" cy="37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3251600">
                <a:off x="6751800" y="5897520"/>
                <a:ext cx="61560" cy="12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292800" y="5536440"/>
                <a:ext cx="466560" cy="40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3251600">
                <a:off x="6318720" y="5491800"/>
                <a:ext cx="50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821280" y="4482720"/>
              <a:ext cx="747000" cy="786240"/>
              <a:chOff x="6821280" y="4482720"/>
              <a:chExt cx="747000" cy="786240"/>
            </a:xfrm>
          </p:grpSpPr>
          <p:sp>
            <p:nvSpPr>
              <p:cNvPr id="482" name=""/>
              <p:cNvSpPr/>
              <p:nvPr/>
            </p:nvSpPr>
            <p:spPr>
              <a:xfrm rot="7804200">
                <a:off x="6841440" y="4684680"/>
                <a:ext cx="706320" cy="38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804200">
                <a:off x="7369200" y="4566240"/>
                <a:ext cx="64080" cy="12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967800" y="4654800"/>
                <a:ext cx="413280" cy="49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7804200">
                <a:off x="6827400" y="4705920"/>
                <a:ext cx="50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>
            <a:off x="1144800" y="457200"/>
            <a:ext cx="8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2000" y="2666880"/>
            <a:ext cx="8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914040" y="1752480"/>
            <a:ext cx="1219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57920" y="685800"/>
            <a:ext cx="502092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xGrove Pl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xAllen Pl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xCol.McCand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Ca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Wren Building (Colle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Brick Chu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Kings M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Burwells M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x Slave cabi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it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n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ove Wha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lled Tre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little rocks with felled tre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fer Pine … or Pine Hardwood Mix  (Pine and Hardwood mixed ….   And Pines are swam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rong defense for Forts   (rocks … )   (Big rocks blan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64160" y="1522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of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of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unique (College, Seminry, Herr, McPHer, Cemet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6324480" y="851040"/>
            <a:ext cx="2819520" cy="25923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4267080" cy="25369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2286000" y="4317840"/>
            <a:ext cx="57150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5410080" y="456840"/>
            <a:ext cx="3352680" cy="5486400"/>
            <a:chOff x="5410080" y="456840"/>
            <a:chExt cx="3352680" cy="5486400"/>
          </a:xfrm>
        </p:grpSpPr>
        <p:sp>
          <p:nvSpPr>
            <p:cNvPr id="496" name=""/>
            <p:cNvSpPr/>
            <p:nvPr/>
          </p:nvSpPr>
          <p:spPr>
            <a:xfrm>
              <a:off x="6400440" y="1357560"/>
              <a:ext cx="914400" cy="319320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440" y="1357560"/>
              <a:ext cx="0" cy="458568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10080" y="1357560"/>
              <a:ext cx="335268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00440" y="457200"/>
              <a:ext cx="914400" cy="90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14840" y="456840"/>
              <a:ext cx="838440" cy="90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619960" y="1432080"/>
            <a:ext cx="223956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 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 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Red    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d                 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 Yel                 &lt;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 Red                  &lt;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n                   Grn                      &lt; 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l                     Yel                  &lt; 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15200" y="419112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00800" y="3276720"/>
            <a:ext cx="144792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15200" y="2743200"/>
            <a:ext cx="76212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0" y="0"/>
          <a:ext cx="533412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3341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1983240" y="114300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64480" y="114300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64480" y="19051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45360" y="19051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64480" y="31240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45360" y="31240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83240" y="23623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64480" y="23623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3240" y="39625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64480" y="39625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83240" y="480060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64480" y="480060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3240" y="16765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364480" y="16765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69040" y="23623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83240" y="28195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64480" y="28195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64480" y="35812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5360" y="35812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2520" y="434340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G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7440" y="4343400"/>
            <a:ext cx="4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G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5360" y="434340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Y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8006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22480" y="6308640"/>
            <a:ext cx="133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rth to South Lay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9:25:49Z</dcterms:created>
  <dc:creator>D'AMico</dc:creator>
  <dc:description/>
  <dc:language>en-US</dc:language>
  <cp:lastModifiedBy>D'AMico</cp:lastModifiedBy>
  <cp:lastPrinted>2006-03-09T20:36:13Z</cp:lastPrinted>
  <dcterms:modified xsi:type="dcterms:W3CDTF">2006-03-09T20:51:05Z</dcterms:modified>
  <cp:revision>30</cp:revision>
  <dc:subject/>
  <dc:title>No Slide Title</dc:title>
</cp:coreProperties>
</file>