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5840"/>
            <a:ext cx="8534160" cy="682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5839920" y="4335480"/>
            <a:ext cx="3301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cCall  (Reynolds, Meade, Seymour) Fredericks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  En Ro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 flipH="1" flipV="1">
            <a:off x="8458200" y="1591920"/>
            <a:ext cx="10152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H="1" flipV="1">
            <a:off x="8152920" y="990360"/>
            <a:ext cx="135000" cy="507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 flipH="1" flipV="1">
            <a:off x="8432640" y="1168200"/>
            <a:ext cx="7632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 flipV="1">
            <a:off x="8669160" y="182844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7695720" y="762120"/>
            <a:ext cx="93960" cy="27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7806960" y="1074600"/>
            <a:ext cx="142920" cy="52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7940160" y="1717560"/>
            <a:ext cx="2034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7467120" y="1294920"/>
            <a:ext cx="1764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10944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drawa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44792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0"/>
                </a:moveTo>
                <a:lnTo>
                  <a:pt x="1488" y="48"/>
                </a:lnTo>
                <a:lnTo>
                  <a:pt x="1344" y="240"/>
                </a:lnTo>
                <a:lnTo>
                  <a:pt x="960" y="240"/>
                </a:lnTo>
                <a:lnTo>
                  <a:pt x="816" y="288"/>
                </a:lnTo>
                <a:lnTo>
                  <a:pt x="720" y="336"/>
                </a:lnTo>
                <a:lnTo>
                  <a:pt x="624" y="384"/>
                </a:lnTo>
                <a:lnTo>
                  <a:pt x="480" y="432"/>
                </a:lnTo>
                <a:lnTo>
                  <a:pt x="384" y="432"/>
                </a:lnTo>
                <a:lnTo>
                  <a:pt x="240" y="384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7475040" y="1920960"/>
            <a:ext cx="474840" cy="68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7467480" y="838080"/>
            <a:ext cx="15264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748280" y="317520"/>
            <a:ext cx="453960" cy="196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496280" y="2641680"/>
            <a:ext cx="333360" cy="333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41600" y="5462640"/>
            <a:ext cx="269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ention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Jenkins (RH And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lston ( independent brigade - Longstree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eatherston (2 to 3 regiments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ot Mentione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odes, Ra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780400" y="181728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8594640" y="1260360"/>
            <a:ext cx="7632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8000" y="10206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11880" y="79380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43200" y="20383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19560" y="12668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66320" y="197172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2480" y="7383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49120" y="146988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72920" y="6154560"/>
            <a:ext cx="3867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,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, … Featherston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, Hamp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19040" y="160020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389400" y="223920"/>
            <a:ext cx="395280" cy="36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28760" y="285480"/>
            <a:ext cx="61920" cy="158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803240" y="1576440"/>
            <a:ext cx="595440" cy="6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316240" y="817560"/>
            <a:ext cx="2808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87280" y="8143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24280" y="134136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261880" y="590400"/>
            <a:ext cx="315720" cy="27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12160" y="49536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7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0400" y="1000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943360" y="1616040"/>
            <a:ext cx="482400" cy="23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76520" y="1432080"/>
            <a:ext cx="250920" cy="14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6240" y="14731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1440" y="17208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844960" y="2006640"/>
            <a:ext cx="19080" cy="21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381640" y="2090880"/>
            <a:ext cx="111240" cy="309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21120" y="17445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75240" y="25588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544720" y="2400480"/>
            <a:ext cx="95400" cy="220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457600" y="2125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695920" y="1822320"/>
            <a:ext cx="0" cy="2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66840" y="1951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71240" y="197172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4110120" y="1503000"/>
            <a:ext cx="1270080" cy="6253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227640" y="1837800"/>
            <a:ext cx="189000" cy="4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2280" y="15192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639880" y="1870200"/>
            <a:ext cx="246240" cy="9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1600" y="199872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682720" y="846000"/>
            <a:ext cx="263520" cy="6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21520" y="62064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308320" y="36180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333520" y="473040"/>
            <a:ext cx="412920" cy="2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65080" y="1807920"/>
            <a:ext cx="433440" cy="355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1482480" y="1601640"/>
            <a:ext cx="38412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9560" y="12621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8064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73360" y="1969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61880" y="590400"/>
            <a:ext cx="315720" cy="27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40440" y="5112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8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3560" y="3906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716120" y="1998720"/>
            <a:ext cx="465120" cy="24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274840" y="1968480"/>
            <a:ext cx="351000" cy="39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44240" y="19591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02520" y="21319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611680" y="2090880"/>
            <a:ext cx="139680" cy="336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4680" y="1946160"/>
            <a:ext cx="214200" cy="14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08080" y="15987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8240" y="24130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484600" y="2217600"/>
            <a:ext cx="112680" cy="2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08520" y="206676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530240" y="1685880"/>
            <a:ext cx="35100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06040" y="205740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208320" y="1374840"/>
            <a:ext cx="1047600" cy="231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26200" y="2122200"/>
            <a:ext cx="344520" cy="14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92120" y="175896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72920" y="61563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466640" y="2359080"/>
            <a:ext cx="18396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44120" y="230832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1320" y="63648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205000" y="1057320"/>
            <a:ext cx="412920" cy="2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0" y="2468520"/>
            <a:ext cx="476280" cy="20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26840" y="2075040"/>
            <a:ext cx="269640" cy="18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6320" y="188928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-53640" y="21906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46400" y="103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31680" y="1235160"/>
            <a:ext cx="315720" cy="266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470600" y="106056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9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40000" y="62064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365120" y="2324160"/>
            <a:ext cx="300240" cy="50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736640" y="2071800"/>
            <a:ext cx="171360" cy="185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9440" y="19969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97680" y="24843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8240" y="12207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3526920" y="1368360"/>
            <a:ext cx="436680" cy="139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5262480" y="2157480"/>
            <a:ext cx="303120" cy="46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8760" y="1620720"/>
            <a:ext cx="300240" cy="273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0440" y="22590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4927680" y="1943280"/>
            <a:ext cx="293760" cy="155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57720" y="18082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4101840" y="1530360"/>
            <a:ext cx="266760" cy="54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97960" y="193824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518080" y="2250720"/>
            <a:ext cx="189000" cy="4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80680" y="128916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977760" y="2941560"/>
            <a:ext cx="252720" cy="231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155240" y="284796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281320" y="63648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716120" y="1372680"/>
            <a:ext cx="326880" cy="135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42560" y="2544840"/>
            <a:ext cx="330120" cy="13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80" y="22748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51120" y="137304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212840" y="1517760"/>
            <a:ext cx="316080" cy="266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70720" y="12841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80" y="109440"/>
            <a:ext cx="110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0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40000" y="62064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74720" y="2879640"/>
            <a:ext cx="550800" cy="420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341360" y="2563560"/>
            <a:ext cx="206280" cy="31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11000" y="27273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040400" y="30639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57280" y="98100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386080" y="958680"/>
            <a:ext cx="403200" cy="3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4875120" y="1874520"/>
            <a:ext cx="268560" cy="166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5600" y="1387440"/>
            <a:ext cx="300240" cy="92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41480" y="196524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4516200" y="1635120"/>
            <a:ext cx="293400" cy="155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39960" y="14986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900520" y="1335240"/>
            <a:ext cx="4284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59840" y="137160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71720" y="1003320"/>
            <a:ext cx="216000" cy="71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26520" y="87624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06000" y="3190680"/>
            <a:ext cx="243000" cy="128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0600" y="32860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281320" y="63648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071720" y="1566720"/>
            <a:ext cx="114120" cy="168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009800" y="14335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51040" y="1414440"/>
            <a:ext cx="180720" cy="198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6800" y="15494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680" y="109440"/>
            <a:ext cx="110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1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40000" y="62064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77440" y="3610080"/>
            <a:ext cx="5144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826920" y="3173400"/>
            <a:ext cx="1540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37800" y="32097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600" y="37242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07680" y="12891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390680" y="1515960"/>
            <a:ext cx="419040" cy="101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4222800" y="1557000"/>
            <a:ext cx="318960" cy="12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449440" y="1255320"/>
            <a:ext cx="25740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74840" y="15955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3813120" y="1436400"/>
            <a:ext cx="293760" cy="112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9240" y="13096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912680" y="1517760"/>
            <a:ext cx="446040" cy="117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7520" y="150804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1884240" y="1360080"/>
            <a:ext cx="165240" cy="158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894680" y="112392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 flipV="1">
            <a:off x="282600" y="1720800"/>
            <a:ext cx="284040" cy="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222640" y="1047600"/>
            <a:ext cx="412560" cy="2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295200" y="1663560"/>
            <a:ext cx="31608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160" y="735120"/>
            <a:ext cx="66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680" y="109440"/>
            <a:ext cx="110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5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73240" y="80172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160800" y="1362240"/>
            <a:ext cx="249120" cy="117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184400" y="1609560"/>
            <a:ext cx="24912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5520" y="13860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2894040" y="1395000"/>
            <a:ext cx="171360" cy="3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3080" y="11304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247840" y="839880"/>
            <a:ext cx="393840" cy="14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9360" y="1793880"/>
            <a:ext cx="284040" cy="20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6120" y="1576440"/>
            <a:ext cx="284400" cy="20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00760" y="1685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1276200" y="1668240"/>
            <a:ext cx="249480" cy="215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21240" y="3178080"/>
            <a:ext cx="179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Clellan maneuv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ivisions to White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requested formation of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or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73040" y="3703680"/>
            <a:ext cx="403200" cy="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 flipV="1">
            <a:off x="282600" y="1720800"/>
            <a:ext cx="284040" cy="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222640" y="1047600"/>
            <a:ext cx="412560" cy="22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95200" y="1663560"/>
            <a:ext cx="316080" cy="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160" y="735120"/>
            <a:ext cx="66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80" y="109440"/>
            <a:ext cx="110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8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73240" y="801720"/>
            <a:ext cx="14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08480" y="4121280"/>
            <a:ext cx="3032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:  Morrell (Martindale, Griffin, Butterfield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:  Slocum (Taylor, Bartlett, Newton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cCall  (Reynolds, Meade, Seymour) at Falmou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3160800" y="1362240"/>
            <a:ext cx="249120" cy="117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184400" y="1609560"/>
            <a:ext cx="249120" cy="2160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5520" y="13860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2894040" y="1395000"/>
            <a:ext cx="171360" cy="3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73080" y="11304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247840" y="839880"/>
            <a:ext cx="393840" cy="14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9360" y="1793880"/>
            <a:ext cx="284040" cy="20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6120" y="1576440"/>
            <a:ext cx="284400" cy="20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00760" y="16858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276200" y="1668240"/>
            <a:ext cx="249480" cy="215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81240" y="3205080"/>
            <a:ext cx="3282840" cy="2073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ivisions at White Ho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organized into two new corp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Call was stationed at Fredericksbur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ril through May, and joined McClell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early June (coming by way of White Hous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eems wrong. Hanover CH took place in late M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id not McCall simply march directly south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info states he arrived at White House betwe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n 9-12. By Transport? Or March? If March, why not just march directly south to link up with Porter at Mechanicsvill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 – it embarked at Falmouth on June 9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left for White House via trans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43800" y="2006640"/>
            <a:ext cx="393840" cy="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527960" y="896400"/>
            <a:ext cx="350640" cy="274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816680" y="112536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7815240" y="138240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257440" y="2057400"/>
            <a:ext cx="1522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562720" y="1981080"/>
            <a:ext cx="3808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82880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495320" y="1599840"/>
            <a:ext cx="2286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4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1447920"/>
            <a:ext cx="1752480" cy="457200"/>
          </a:xfrm>
          <a:custGeom>
            <a:avLst/>
            <a:gdLst/>
            <a:ahLst/>
            <a:rect l="l" t="t" r="r" b="b"/>
            <a:pathLst>
              <a:path w="1104" h="288">
                <a:moveTo>
                  <a:pt x="1104" y="240"/>
                </a:moveTo>
                <a:lnTo>
                  <a:pt x="960" y="48"/>
                </a:lnTo>
                <a:lnTo>
                  <a:pt x="864" y="0"/>
                </a:lnTo>
                <a:lnTo>
                  <a:pt x="768" y="0"/>
                </a:lnTo>
                <a:lnTo>
                  <a:pt x="624" y="48"/>
                </a:lnTo>
                <a:lnTo>
                  <a:pt x="528" y="192"/>
                </a:lnTo>
                <a:lnTo>
                  <a:pt x="480" y="192"/>
                </a:lnTo>
                <a:lnTo>
                  <a:pt x="336" y="240"/>
                </a:lnTo>
                <a:lnTo>
                  <a:pt x="144" y="240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39880" y="14479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19512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08120" y="184644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1040" y="20700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43240" y="209556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08560" y="76356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02280" y="1082520"/>
            <a:ext cx="82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594640" y="126036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76480" y="102060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821720" y="156024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523200" y="1809720"/>
            <a:ext cx="10800" cy="308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7800" y="177336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39920" y="4335480"/>
            <a:ext cx="3301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cCall  (Reynolds, Meade, Seymour) Fredericks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  En Ro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0" y="1817640"/>
            <a:ext cx="393840" cy="168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064280" y="1430280"/>
            <a:ext cx="358920" cy="385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585200" y="92052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583400" y="117756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051160" y="2014200"/>
            <a:ext cx="298440" cy="13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692680" y="1766880"/>
            <a:ext cx="225360" cy="57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94320" y="1666800"/>
            <a:ext cx="32076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1563840"/>
            <a:ext cx="281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4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95360" y="13539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0880" y="18478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84200" y="18367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6760" y="23605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9680" y="193212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16360" y="133812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38760" y="817560"/>
            <a:ext cx="820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8053560" y="120240"/>
            <a:ext cx="153720" cy="195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98240" y="3398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6400" y="1746360"/>
            <a:ext cx="0" cy="384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15120" y="199080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tone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8234280" y="113148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16120" y="89208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605720" y="131904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248520" y="1842840"/>
            <a:ext cx="11160" cy="30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73400" y="1328760"/>
            <a:ext cx="69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39920" y="4335480"/>
            <a:ext cx="3301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McCall  (Reynolds, Meade, Seymour) Fredericksbu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  En Ro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46640" y="1757520"/>
            <a:ext cx="814680" cy="107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265800" y="2013120"/>
            <a:ext cx="730440" cy="188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85200" y="92052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83400" y="117756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051160" y="2014200"/>
            <a:ext cx="298440" cy="136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692680" y="1766880"/>
            <a:ext cx="225360" cy="57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19640" y="1571760"/>
            <a:ext cx="38880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886200" y="1461960"/>
            <a:ext cx="2556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0680" y="125100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0520" y="141912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84200" y="18367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7120" y="230040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68680" y="1563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75160" y="214488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38760" y="817560"/>
            <a:ext cx="85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18400" y="51408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8240" y="33984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938920" y="1874880"/>
            <a:ext cx="77760" cy="392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80320" y="19558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tone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4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267760" y="114912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49600" y="90972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05720" y="131904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478120" y="1679400"/>
            <a:ext cx="220680" cy="6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12800" y="14572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46640" y="1757520"/>
            <a:ext cx="617760" cy="64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65800" y="2108160"/>
            <a:ext cx="393840" cy="93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585200" y="92052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35960" y="52668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111280" y="2049120"/>
            <a:ext cx="36684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692680" y="1766880"/>
            <a:ext cx="225360" cy="57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84200" y="18367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4920" y="229248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8680" y="156384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27680" y="23004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08600" y="473040"/>
            <a:ext cx="127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18320" y="2141640"/>
            <a:ext cx="9504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5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83160" y="211788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081840" y="1547640"/>
            <a:ext cx="9504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675400" y="409680"/>
            <a:ext cx="325440" cy="93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9400" y="4777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33720" y="1494000"/>
            <a:ext cx="389160" cy="1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500280" y="1384200"/>
            <a:ext cx="2556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35120" y="11732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0" y="159084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50000" y="125244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31840" y="101268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751880" y="94104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757400" y="1792080"/>
            <a:ext cx="204840" cy="14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7880" y="186840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146640" y="1757520"/>
            <a:ext cx="617760" cy="64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870520" y="2047680"/>
            <a:ext cx="111240" cy="309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45320" y="552240"/>
            <a:ext cx="0" cy="152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711760" y="525600"/>
            <a:ext cx="395280" cy="39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511960" y="2030400"/>
            <a:ext cx="241200" cy="16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692680" y="1766880"/>
            <a:ext cx="225360" cy="57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120" y="1897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26760" y="23605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67280" y="129708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81400" y="239544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59720" y="43956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062240" y="299880"/>
            <a:ext cx="30816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72520" y="31428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998680" y="2279520"/>
            <a:ext cx="9540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5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54400" y="20574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892840" y="1528560"/>
            <a:ext cx="24120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28640" y="15256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85120" y="5428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8680" y="1373040"/>
            <a:ext cx="509760" cy="63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011400" y="1092240"/>
            <a:ext cx="230400" cy="17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14280" y="9842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25960" y="140184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94640" y="105552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0560" y="81612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105440" y="1561680"/>
            <a:ext cx="274320" cy="33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25560" y="161136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46640" y="1757520"/>
            <a:ext cx="617760" cy="64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870520" y="2047680"/>
            <a:ext cx="111240" cy="309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676920" y="584280"/>
            <a:ext cx="282600" cy="19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562640" y="371520"/>
            <a:ext cx="395280" cy="39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62520" y="1781280"/>
            <a:ext cx="66960" cy="188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692680" y="1998720"/>
            <a:ext cx="131760" cy="34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98760" y="185436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90320" y="235116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29708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81400" y="239544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88000" y="3445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3170160" y="222120"/>
            <a:ext cx="30816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0440" y="23652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998680" y="2279520"/>
            <a:ext cx="9540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5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54400" y="20574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892840" y="1528560"/>
            <a:ext cx="24120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28640" y="152568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35640" y="3888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46240" y="1366560"/>
            <a:ext cx="492120" cy="6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2865240" y="946080"/>
            <a:ext cx="230040" cy="17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11320" y="7952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87960" y="118584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00600" y="2414520"/>
            <a:ext cx="66960" cy="18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dams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Keim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94640" y="1055520"/>
            <a:ext cx="0" cy="1526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0560" y="81612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3857760" y="1490760"/>
            <a:ext cx="272880" cy="9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49240" y="161136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6008400" y="1757520"/>
            <a:ext cx="13788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870520" y="2047680"/>
            <a:ext cx="111240" cy="309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02360" y="60156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560760" y="310680"/>
            <a:ext cx="395280" cy="39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4223880" y="1582560"/>
            <a:ext cx="515880" cy="16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1849320"/>
            <a:ext cx="311040" cy="18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30480" y="164772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59880" y="132084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129708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81400" y="239544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192040" y="152280"/>
            <a:ext cx="189000" cy="301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59600" y="1080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998680" y="2279520"/>
            <a:ext cx="95400" cy="2206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6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54400" y="20574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5892840" y="1528560"/>
            <a:ext cx="241200" cy="182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58800" y="181764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1080" y="29520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90640" y="1252440"/>
            <a:ext cx="389160" cy="227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84560" y="909720"/>
            <a:ext cx="358560" cy="12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3800" y="104292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16240" y="140976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24440" y="55728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472520" y="1185840"/>
            <a:ext cx="95040" cy="177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03440" y="113364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463920" y="1440000"/>
            <a:ext cx="246240" cy="93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55640" y="156852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5200" y="1437840"/>
            <a:ext cx="255600" cy="120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45440" y="11793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flipH="1">
            <a:off x="5844960" y="2006640"/>
            <a:ext cx="19080" cy="210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381640" y="2090880"/>
            <a:ext cx="111240" cy="309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64000" y="353880"/>
            <a:ext cx="395280" cy="36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859120" y="320760"/>
            <a:ext cx="187200" cy="38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906720" y="1463760"/>
            <a:ext cx="609840" cy="17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86400" y="1677960"/>
            <a:ext cx="318960" cy="18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3080" y="148608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86840" y="1554120"/>
            <a:ext cx="77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716960" y="20876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21120" y="174456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5240" y="25588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o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2234880" y="600120"/>
            <a:ext cx="30780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8200" y="538200"/>
            <a:ext cx="63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44720" y="2400480"/>
            <a:ext cx="95400" cy="220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" y="109440"/>
            <a:ext cx="102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6, 18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57600" y="212580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5695920" y="1822320"/>
            <a:ext cx="0" cy="276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71240" y="197172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ouch, Cas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68640" y="11124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320920" y="1247760"/>
            <a:ext cx="457200" cy="25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957320" y="1141560"/>
            <a:ext cx="246240" cy="28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50600" y="1052640"/>
            <a:ext cx="50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16240" y="140976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0560" y="32688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, Richard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4933800" y="1904760"/>
            <a:ext cx="446400" cy="223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2280" y="4343400"/>
            <a:ext cx="3048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umner:  Richardson (Caldwell, Meagher, French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edgwick(Sully, Burns, Dan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Heintzelman:  Hooker (Grover, Taylor, Patter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arny ( Jameson, Birney, Berr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orter (Martindale, Griffin, Butterfiel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Keyes:  Couch (Abercrombie, Peck, Dev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mith (Hancock, Brooks, Davids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Casey (Naglee, Wessels, Palm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 (Buchanan, Chapman, Warre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Franklin (Slocum, Bartlett, New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605640" y="1835280"/>
            <a:ext cx="257040" cy="19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160" y="146844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Sy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00680" y="952560"/>
            <a:ext cx="128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81200" y="74772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 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72920" y="6154560"/>
            <a:ext cx="3832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Longstreet (RH Anderson, AP Hill, Picket, Colston,  Pryor Wilco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H Hill (Rodes, Early, Rain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mith  (Whiting, Hood, Toomb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gruder (McClaws, Kershaw, DR Jones, Griffith, Cob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128760" y="1663560"/>
            <a:ext cx="245880" cy="93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0480" y="179244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cCla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127320" y="1171440"/>
            <a:ext cx="255600" cy="12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67560" y="9129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ampt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9:38:15Z</dcterms:created>
  <dc:creator>D'AMico</dc:creator>
  <dc:description/>
  <dc:language>en-US</dc:language>
  <cp:lastModifiedBy>Graeme</cp:lastModifiedBy>
  <dcterms:modified xsi:type="dcterms:W3CDTF">2008-01-30T00:59:36Z</dcterms:modified>
  <cp:revision>35</cp:revision>
  <dc:subject/>
  <dc:title>No Slide Title</dc:title>
</cp:coreProperties>
</file>